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5"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DB7E-5879-49B1-AC03-2F43B5816DA2}"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move the slide</a:t>
            </a:r>
            <a:endParaRPr b="0" lang="en-US" sz="4800" spc="-1" strike="noStrike">
              <a:solidFill>
                <a:srgbClr val="404040"/>
              </a:solidFill>
              <a:latin typeface="Calisto MT"/>
            </a:endParaRPr>
          </a:p>
        </p:txBody>
      </p:sp>
      <p:sp>
        <p:nvSpPr>
          <p:cNvPr id="7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8"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9"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F7DA-8166-4FEB-B2F2-70BAEEAE5EF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9FAD-A027-4EBD-8045-89382A6A1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88FE-F8CB-4558-ABAB-5AB3C9D9B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C1EC9-86EB-4373-9F2E-5D07E5ADF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307F5-12AA-47E5-92DA-C46C0680A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B5743B3-8418-4836-B336-8D7F7B850CD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E1BEE08-8FCD-4D46-B7BF-B360AB1C147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A2CD0D6-8C25-4BB3-A102-F4CC38E8282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55C52C-AEAA-4093-BF60-F0F66A20B89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39E04B-46D0-476B-B69F-FCDCE8C9ECB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9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1BC026C-8524-43F2-964F-C7E9454AF76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3BC7958-D2D5-431C-A4F7-68FCB17929A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2E4B997-C4C7-408C-BBED-68EC609C394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0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1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27DF2B1-8652-42E0-8775-200CCEF9405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76FD037-6D2E-4AE9-B348-2654B5ED34A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D153E-ADC9-4725-B4C0-9B1B5FB69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F86F960-142C-4B78-9ECB-710C3D30CEF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2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9D549AA-F662-48A4-B5CC-AE2C40BA7EA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91CFDC1-35FB-4753-BCB9-318D935D3B2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A498FD2-B528-45B3-ADD3-CC6BE9A94F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5C751A9-A0C0-4401-8499-1ABB49F6327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3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3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7BD9BA-3E5B-435A-B4EB-75F447EAC5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1FFB5B-C798-4BA9-ABE8-3C3F594FD1B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EE75104-7F4B-4A66-B498-E3C18EC682B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4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4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8CB044A-B0A4-4735-B2A7-40F3179B890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FC524A4-DA7B-45D3-8882-5FCD5B7D58B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C7230-8407-4FB7-AE1A-7197F77B7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5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5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6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1AD5EC0-C29F-47EA-BE46-627ED915742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8C9C809-EC04-4D71-96B6-9DD0DDD5368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93B4401-FB6C-49FF-8091-CDB851DE6AC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7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4017C7C-60CB-4E76-BF04-0A001F230AB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D9F8794-2EA0-415E-A519-E04724AE651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A7C1921-4616-4587-ABFC-DD796B63749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3E70E2C-2C60-4B93-AF3C-2783377A108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8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8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4F578E3-99AC-4C2B-B44C-3E23A06D83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DD3CC90-6474-4D8E-9E40-546469A6FEA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7019028-7925-4089-9561-141A8C6402C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B1BF9-5C9E-47AC-A282-2252CF4F0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49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9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71B4555-B770-45B8-BA3E-A631DCAC5BD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1D02230-7405-4E5C-8A18-26F46A2B0AC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0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0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1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6EC4B45-0BA5-4275-89D0-C328CD613D8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2BF2FD3-7171-4E3A-8BCE-BD5AB613AFA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5"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9122189-8209-43AA-A266-35835F98FA0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7"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F1D5696-BB8F-4D94-AB9D-DF3B955DF61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D5B91F0-7977-4156-8770-51D5C402B08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7515745-F166-411B-B6FF-AEE9A615890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59AB012-74A7-4B83-B29A-EB09607D2B0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46AFA93-8769-46F8-9DDB-D80D3195DE8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2"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D2133-905A-4A7D-B9FB-7E57C8ADE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3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3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0"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DF73C21-075B-4511-B59C-AD9A244D6B1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4"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0904440-2877-4197-BD8E-FD7C831935E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6"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47"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B96A4E1-DAB7-41F3-9307-B1BA32945C0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2"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8968602-5B37-4F23-9FEB-75C1435DE49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54"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5"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6"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7"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8"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59"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EC8E497-81AE-4AE7-91B6-D12EE215FDA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0CBC2D8-0F87-44F9-B5D8-BD14A90B615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3"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69ED9D6-E3CD-4792-AEF1-3BEE6E05EE7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5"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BBBA8BF-3446-42EA-9333-55395AD7676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7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E6A3E41-F805-4EA5-944E-91C287C172F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6207F33-4300-4038-A05E-8590D4D229B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4"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CA020-88DE-4C1C-BCA6-B0B064CBF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28E0A58-B496-4267-944C-4DB0DC6F9F9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941722B-C98B-467F-BFF5-A102CDC37AE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8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88"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63DF9EE-B1F1-4C1D-9D2A-18002A5A325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2"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69A382C-927E-452F-A5B9-2F6C4B3071C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4"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5"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BC06A7C-3AC9-4F12-8934-7E4706A7665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9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9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0"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91DFEAC3-449B-4780-811C-B95B65C4A02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02"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3"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4"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5"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6"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07"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6A8C136E-10D7-4B25-8634-F1C6DF82C49D}"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EEA1415-6718-4E5B-8AF4-967E82CFEEB1}"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4EF2CC4-713B-4ED8-9DE0-5421438F536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44776E9-7030-423D-95A3-F5AB657A557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5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2FDFD-6383-41CC-8040-39D2CCDEB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9A09F0C-844E-4BCE-831C-0BA2795E4D5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31D33CD-C768-4EDC-9CDF-22302F4A1CA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07EABB9-3726-4D99-91AE-F5253D6D554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2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C48F5B2-3C54-46AC-8C23-5B8C25578A0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D4BE3B1-4025-4431-9CF8-83FC941E77D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3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5D362BF-2F08-4BFC-AE66-59A3FA2B6C5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5F9444A-18A7-402B-829B-25993AA6892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4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C7769445-4FCB-4CA3-B470-B6DBA0F9FEE0}"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4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5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E0B574BA-B29E-416B-A693-14E77339D8EF}"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E49A394-7D21-4A32-808D-FFD4DE5FCBEC}"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9F10A-B154-4C0D-BCC5-67C562E0A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68"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3C9585F-9B6F-41A4-A1EB-57BBD951E88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0"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EEAF5536-E08C-4671-B34D-96A299F334D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5C7D612D-AA0E-4C1D-9B72-4C5712A5234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3E3F915-0C9B-4370-A02A-EB6B7CB407A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4934E2F-0457-4103-954A-912271392D7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7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8C01309-D66B-41A7-A0D2-D1279B9B88A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3"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CB38554-0CFB-4434-B7E4-46AC77AA62B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87"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45A9764-5EB8-4A96-A2CB-64E9F71A70B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89"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0"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E783634D-FE72-468E-9F89-2D5A81A4B77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5"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FAF0BE0F-7DA8-4ABC-9ED9-9C94FF29E97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E7D9F-584C-41DF-8520-F05502936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7"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8"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99"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0"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1"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2"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7468152-582F-493D-AEDA-28EE06AB36F8}"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C5F53-8460-4EE6-BA75-514F2A0F0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24F74-EEE9-4DAF-962B-37FCEFB0F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5"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6"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7"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AA5C8-917D-4B8A-B93F-13709AC88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6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CDD61-C1EB-4E93-8ADE-6C8A08439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3"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4"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F942F-8B61-4551-8EFC-E2848F2AB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7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9"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7FB22-25B1-4DEF-BC74-40E28D5DA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1"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2"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3"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4"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5"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86"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9DA23-B8A5-41D6-A746-197AE96D5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EE0F57-D06B-4A9F-8389-C795B4B88A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9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51B74-0BAF-451A-82AA-90E236BA6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882A92-8877-468D-A0FF-3A9413EBC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EEECF-ED2D-4484-B1C0-C6A1703B46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35958-96AF-416F-8D91-96832ECBB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F197E-BB1A-42DE-A445-E129F968B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3D4C3-7628-4631-A326-16E1078C2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0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A9C87-9807-426B-A0C5-BFF268044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2"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3"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4"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88437-E5A5-4D5F-A51B-B4906FBCE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1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8"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F2CDA-9362-44C6-BA91-981E87771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0"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1"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83E55-9FB2-4590-A4AA-A247FEFC2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6"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E20C3C-B225-47ED-81EF-1E72DD803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28"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29"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0"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1"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2"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33"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02E3E8-11E9-472C-B436-8478C8E61C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4"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6"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C633B-230E-4FE9-892D-D5CA8831A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48"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49"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4"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5"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59"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3"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5"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6"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68"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9"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0"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1"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73"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4"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5"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6"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7"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8"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18E1B55-D4E3-49AF-87F2-8AD2E28B133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93E60-C964-41AE-913D-6E72AA701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0"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646ED1F-6F85-4FAF-9DBF-C62CDA1A006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2"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1B963F4-4BCA-4BC3-AA06-8F9AB5DACA6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4"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95"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BB01A63-FC77-438C-9465-F4BC72FF7E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2220DD-F75F-4744-81CA-B6919FB391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697E4DE-0FE6-4FBF-89ED-CC4235BBAD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9"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0"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1"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F2A42F-C24A-4C9D-ACB4-8AE2BE78682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3"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5"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62D20DB-C4F7-4817-A89E-2ED22F75312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0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9"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4C5D84-B4CB-4926-87A3-D08ED9D823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1"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2"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517FFC4-1187-432E-9386-F4E8AA4D790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6"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7"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0018966-59CE-4CA5-9E5E-22B1523168B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9B0D-7190-45DF-AAB2-2B5D18260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19"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0"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1"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2"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3"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24"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AE7180E-8A03-4047-BF99-BFAC9CD8593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469FD48-1F32-4E60-9E14-0DD72E89BFF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7"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3E2B608-9CD0-42EA-951A-05A6CFED9B8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9"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BAD32C4-500D-4505-AE1F-D2285EC344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1"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2"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8439DC9-C4FB-49BD-B59A-35B96B84D84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96EF28-E459-4B57-A8BD-C1391898174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0F9F1E4-0DF9-4E7A-80C1-D0C6DD6AA5E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46"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7"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8"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38F2AC-9C34-40BE-A603-E43500A670A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2"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AE2A631-E7EC-4E66-8233-D0942D24D0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4"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5"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6"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2F6F1A6-17FE-485E-A8FA-56C0211510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1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246D2-A352-4F80-AD85-C2F48197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58"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9"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EE6BABF-1D9C-4D9C-A06E-9CF53427D1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1"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2"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3"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4"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912621F-95F1-4F21-8A32-EBB67D394BC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66"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7"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8"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69"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0"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71"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97F57E4-8327-48E0-B0D7-AD7D9D7AEAA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BAC214E-DF48-4C4A-A28E-CD3E43845F8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6"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488414-B474-41CA-A7A6-7ADB11CA65E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88"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98FE9AE-FBD4-4F60-A905-504DDED645E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0"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1"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0DB2B41-181F-4853-9973-10D131C8714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F5A54FE-3157-4EE5-99D7-D56D12CEEDB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2D01882-C75C-4A7B-813F-1ECFAF5FB43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5"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6"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97"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F89A6D3-66F4-47D9-AEFF-183D6E19FF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1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E51D-C902-4FE9-9D19-04B0A4FDB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99"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0"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1"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D1A411-ADF2-419F-8335-81C24980590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AC2EBF-4CDF-48FE-8141-EAC3FA824E3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07"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08"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DA60D67-5C30-4044-B7D8-FD267FE628B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2"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3"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99BA9B3-1277-4845-9386-EEE29C406F9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15"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6"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7"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8"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19"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20"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E27E468-244D-4F5A-9AF1-96A2A5F61DB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3810C08-1D84-4DA5-BAB5-BDF23CADA90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3"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0F001B5-C792-4FB1-BA4B-C1516D32BB5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5"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806601D-AE34-4A1D-8268-93766779BC8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37"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38"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51B8021-8B8A-4918-81B3-C6CAB07B5FF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6BED59-2AAA-49EA-8DA3-4554647AC36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23"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4"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25"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A5809-BAAD-4CB8-93A0-1A7CD260C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00000" y="244440"/>
            <a:ext cx="7345440" cy="6212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ABDCB3F-2D2A-4A3E-A21A-52EBBCD40A9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2"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3" name="PlaceHolder 3"/>
          <p:cNvSpPr>
            <a:spLocks noGrp="1"/>
          </p:cNvSpPr>
          <p:nvPr>
            <p:ph/>
          </p:nvPr>
        </p:nvSpPr>
        <p:spPr>
          <a:xfrm>
            <a:off x="466416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4"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8A5C60-0ABF-48CE-A4A0-7B622BE24AB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46" name="PlaceHolder 2"/>
          <p:cNvSpPr>
            <a:spLocks noGrp="1"/>
          </p:cNvSpPr>
          <p:nvPr>
            <p:ph/>
          </p:nvPr>
        </p:nvSpPr>
        <p:spPr>
          <a:xfrm>
            <a:off x="900000" y="2133360"/>
            <a:ext cx="358452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7"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48" name="PlaceHolder 4"/>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ADE458-0385-415E-99B9-BD54E267C4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0"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1"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2" name="PlaceHolder 4"/>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2D230D-13E4-4363-98C3-80CAEEAC9EB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4" name="PlaceHolder 2"/>
          <p:cNvSpPr>
            <a:spLocks noGrp="1"/>
          </p:cNvSpPr>
          <p:nvPr>
            <p:ph/>
          </p:nvPr>
        </p:nvSpPr>
        <p:spPr>
          <a:xfrm>
            <a:off x="900000" y="213336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5" name="PlaceHolder 3"/>
          <p:cNvSpPr>
            <a:spLocks noGrp="1"/>
          </p:cNvSpPr>
          <p:nvPr>
            <p:ph/>
          </p:nvPr>
        </p:nvSpPr>
        <p:spPr>
          <a:xfrm>
            <a:off x="900000" y="4187520"/>
            <a:ext cx="73454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BC14F43-FE5E-44A2-AEED-125AE81E8B9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57" name="PlaceHolder 2"/>
          <p:cNvSpPr>
            <a:spLocks noGrp="1"/>
          </p:cNvSpPr>
          <p:nvPr>
            <p:ph/>
          </p:nvPr>
        </p:nvSpPr>
        <p:spPr>
          <a:xfrm>
            <a:off x="90000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8" name="PlaceHolder 3"/>
          <p:cNvSpPr>
            <a:spLocks noGrp="1"/>
          </p:cNvSpPr>
          <p:nvPr>
            <p:ph/>
          </p:nvPr>
        </p:nvSpPr>
        <p:spPr>
          <a:xfrm>
            <a:off x="4664160" y="213336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59" name="PlaceHolder 4"/>
          <p:cNvSpPr>
            <a:spLocks noGrp="1"/>
          </p:cNvSpPr>
          <p:nvPr>
            <p:ph/>
          </p:nvPr>
        </p:nvSpPr>
        <p:spPr>
          <a:xfrm>
            <a:off x="90000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0" name="PlaceHolder 5"/>
          <p:cNvSpPr>
            <a:spLocks noGrp="1"/>
          </p:cNvSpPr>
          <p:nvPr>
            <p:ph/>
          </p:nvPr>
        </p:nvSpPr>
        <p:spPr>
          <a:xfrm>
            <a:off x="4664160" y="4187520"/>
            <a:ext cx="358452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1A20D17-0095-4363-BDEF-535A60BC4C9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62" name="PlaceHolder 2"/>
          <p:cNvSpPr>
            <a:spLocks noGrp="1"/>
          </p:cNvSpPr>
          <p:nvPr>
            <p:ph/>
          </p:nvPr>
        </p:nvSpPr>
        <p:spPr>
          <a:xfrm>
            <a:off x="90000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3" name="PlaceHolder 3"/>
          <p:cNvSpPr>
            <a:spLocks noGrp="1"/>
          </p:cNvSpPr>
          <p:nvPr>
            <p:ph/>
          </p:nvPr>
        </p:nvSpPr>
        <p:spPr>
          <a:xfrm>
            <a:off x="338364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4" name="PlaceHolder 4"/>
          <p:cNvSpPr>
            <a:spLocks noGrp="1"/>
          </p:cNvSpPr>
          <p:nvPr>
            <p:ph/>
          </p:nvPr>
        </p:nvSpPr>
        <p:spPr>
          <a:xfrm>
            <a:off x="5866920" y="213336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5" name="PlaceHolder 5"/>
          <p:cNvSpPr>
            <a:spLocks noGrp="1"/>
          </p:cNvSpPr>
          <p:nvPr>
            <p:ph/>
          </p:nvPr>
        </p:nvSpPr>
        <p:spPr>
          <a:xfrm>
            <a:off x="90000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6" name="PlaceHolder 6"/>
          <p:cNvSpPr>
            <a:spLocks noGrp="1"/>
          </p:cNvSpPr>
          <p:nvPr>
            <p:ph/>
          </p:nvPr>
        </p:nvSpPr>
        <p:spPr>
          <a:xfrm>
            <a:off x="338364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367" name="PlaceHolder 7"/>
          <p:cNvSpPr>
            <a:spLocks noGrp="1"/>
          </p:cNvSpPr>
          <p:nvPr>
            <p:ph/>
          </p:nvPr>
        </p:nvSpPr>
        <p:spPr>
          <a:xfrm>
            <a:off x="5866920" y="4187520"/>
            <a:ext cx="2364840" cy="1875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9D7CB11-1550-4401-872D-AF1E8D2A9A7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E175292-023E-4F51-8D1D-331B33464A0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79" name="PlaceHolder 2"/>
          <p:cNvSpPr>
            <a:spLocks noGrp="1"/>
          </p:cNvSpPr>
          <p:nvPr>
            <p:ph type="subTitle"/>
          </p:nvPr>
        </p:nvSpPr>
        <p:spPr>
          <a:xfrm>
            <a:off x="900000" y="2133360"/>
            <a:ext cx="7345440" cy="3932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F4A1FDD-D6B5-455F-A0E2-3ED5C29F3AF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sto MT"/>
            </a:endParaRPr>
          </a:p>
        </p:txBody>
      </p:sp>
      <p:sp>
        <p:nvSpPr>
          <p:cNvPr id="381" name="PlaceHolder 2"/>
          <p:cNvSpPr>
            <a:spLocks noGrp="1"/>
          </p:cNvSpPr>
          <p:nvPr>
            <p:ph/>
          </p:nvPr>
        </p:nvSpPr>
        <p:spPr>
          <a:xfrm>
            <a:off x="900000" y="2133360"/>
            <a:ext cx="7345440" cy="3932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F22FD13-C15A-44E2-BC7E-D55399D7BF1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 name="PlaceHolder 3"/>
          <p:cNvSpPr>
            <a:spLocks noGrp="1"/>
          </p:cNvSpPr>
          <p:nvPr>
            <p:ph type="dt" idx="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2F03-BD0F-4B0F-949C-862CC206215F}"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198C-9E4A-445D-B1AF-EBF7E0EBD35F}"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4" name="Group 33"/>
          <p:cNvGrpSpPr/>
          <p:nvPr/>
        </p:nvGrpSpPr>
        <p:grpSpPr>
          <a:xfrm>
            <a:off x="182520" y="173160"/>
            <a:ext cx="8778960" cy="6511680"/>
            <a:chOff x="182520" y="173160"/>
            <a:chExt cx="8778960" cy="6511680"/>
          </a:xfrm>
        </p:grpSpPr>
        <p:grpSp>
          <p:nvGrpSpPr>
            <p:cNvPr id="415" name="Group 26"/>
            <p:cNvGrpSpPr/>
            <p:nvPr/>
          </p:nvGrpSpPr>
          <p:grpSpPr>
            <a:xfrm>
              <a:off x="182520" y="173160"/>
              <a:ext cx="8778960" cy="6511680"/>
              <a:chOff x="182520" y="173160"/>
              <a:chExt cx="8778960" cy="6511680"/>
            </a:xfrm>
          </p:grpSpPr>
          <p:pic>
            <p:nvPicPr>
              <p:cNvPr id="416" name="Picture 9" descr="PaperPanel-Base.jpg"/>
              <p:cNvPicPr/>
              <p:nvPr/>
            </p:nvPicPr>
            <p:blipFill>
              <a:blip r:embed="rId3"/>
              <a:stretch/>
            </p:blipFill>
            <p:spPr>
              <a:xfrm>
                <a:off x="182520" y="173160"/>
                <a:ext cx="8778960" cy="6511680"/>
              </a:xfrm>
              <a:prstGeom prst="rect">
                <a:avLst/>
              </a:prstGeom>
              <a:ln w="0">
                <a:noFill/>
              </a:ln>
            </p:spPr>
          </p:pic>
          <p:grpSp>
            <p:nvGrpSpPr>
              <p:cNvPr id="417" name="Group 10"/>
              <p:cNvGrpSpPr/>
              <p:nvPr/>
            </p:nvGrpSpPr>
            <p:grpSpPr>
              <a:xfrm>
                <a:off x="378000" y="349560"/>
                <a:ext cx="8384760" cy="6146640"/>
                <a:chOff x="378000" y="349560"/>
                <a:chExt cx="8384760" cy="6146640"/>
              </a:xfrm>
            </p:grpSpPr>
            <p:sp>
              <p:nvSpPr>
                <p:cNvPr id="418" name="Rectangle 11"/>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Straight Connector 12"/>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420" name="Rectangle 8"/>
            <p:cNvSpPr/>
            <p:nvPr/>
          </p:nvSpPr>
          <p:spPr>
            <a:xfrm rot="5400000">
              <a:off x="799560" y="3274200"/>
              <a:ext cx="6136920" cy="63720"/>
            </a:xfrm>
            <a:prstGeom prst="rect">
              <a:avLst/>
            </a:prstGeom>
            <a:solidFill>
              <a:srgbClr val="cbd2d5"/>
            </a:solidFill>
            <a:ln w="3240">
              <a:solidFill>
                <a:srgbClr val="d1d0c8"/>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2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23" name="PlaceHolder 3"/>
          <p:cNvSpPr>
            <a:spLocks noGrp="1"/>
          </p:cNvSpPr>
          <p:nvPr>
            <p:ph type="dt" idx="2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656A-B0D5-4F84-B97E-5590495EFA70}"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24" name="PlaceHolder 4"/>
          <p:cNvSpPr>
            <a:spLocks noGrp="1"/>
          </p:cNvSpPr>
          <p:nvPr>
            <p:ph type="ftr" idx="28"/>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25" name="PlaceHolder 5"/>
          <p:cNvSpPr>
            <a:spLocks noGrp="1"/>
          </p:cNvSpPr>
          <p:nvPr>
            <p:ph type="sldNum" idx="29"/>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01D9-31BA-4AA0-9529-B9C4B19E9FA9}"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2" name="Group 33"/>
          <p:cNvGrpSpPr/>
          <p:nvPr/>
        </p:nvGrpSpPr>
        <p:grpSpPr>
          <a:xfrm>
            <a:off x="182520" y="173160"/>
            <a:ext cx="8778960" cy="6511680"/>
            <a:chOff x="182520" y="173160"/>
            <a:chExt cx="8778960" cy="6511680"/>
          </a:xfrm>
        </p:grpSpPr>
        <p:grpSp>
          <p:nvGrpSpPr>
            <p:cNvPr id="463" name="Group 26"/>
            <p:cNvGrpSpPr/>
            <p:nvPr/>
          </p:nvGrpSpPr>
          <p:grpSpPr>
            <a:xfrm>
              <a:off x="182520" y="173160"/>
              <a:ext cx="8778960" cy="6511680"/>
              <a:chOff x="182520" y="173160"/>
              <a:chExt cx="8778960" cy="6511680"/>
            </a:xfrm>
          </p:grpSpPr>
          <p:pic>
            <p:nvPicPr>
              <p:cNvPr id="464" name="Picture 9" descr="PaperPanel-Base.jpg"/>
              <p:cNvPicPr/>
              <p:nvPr/>
            </p:nvPicPr>
            <p:blipFill>
              <a:blip r:embed="rId3"/>
              <a:stretch/>
            </p:blipFill>
            <p:spPr>
              <a:xfrm>
                <a:off x="182520" y="173160"/>
                <a:ext cx="8778960" cy="6511680"/>
              </a:xfrm>
              <a:prstGeom prst="rect">
                <a:avLst/>
              </a:prstGeom>
              <a:ln w="0">
                <a:noFill/>
              </a:ln>
            </p:spPr>
          </p:pic>
          <p:grpSp>
            <p:nvGrpSpPr>
              <p:cNvPr id="465" name="Group 10"/>
              <p:cNvGrpSpPr/>
              <p:nvPr/>
            </p:nvGrpSpPr>
            <p:grpSpPr>
              <a:xfrm>
                <a:off x="378000" y="349560"/>
                <a:ext cx="8384760" cy="6146640"/>
                <a:chOff x="378000" y="349560"/>
                <a:chExt cx="8384760" cy="6146640"/>
              </a:xfrm>
            </p:grpSpPr>
            <p:sp>
              <p:nvSpPr>
                <p:cNvPr id="466" name="Rectangle 11"/>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Straight Connector 12"/>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468" name="Rectangle 8"/>
            <p:cNvSpPr/>
            <p:nvPr/>
          </p:nvSpPr>
          <p:spPr>
            <a:xfrm rot="5400000">
              <a:off x="799560" y="3274200"/>
              <a:ext cx="6136920" cy="63720"/>
            </a:xfrm>
            <a:prstGeom prst="rect">
              <a:avLst/>
            </a:prstGeom>
            <a:solidFill>
              <a:srgbClr val="cbd2d5"/>
            </a:solidFill>
            <a:ln w="3240">
              <a:solidFill>
                <a:srgbClr val="d1d0c8"/>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9" name="Rectangle 13"/>
          <p:cNvSpPr/>
          <p:nvPr/>
        </p:nvSpPr>
        <p:spPr>
          <a:xfrm rot="10800000">
            <a:off x="258840" y="1593000"/>
            <a:ext cx="3574800" cy="65160"/>
          </a:xfrm>
          <a:prstGeom prst="rect">
            <a:avLst/>
          </a:prstGeom>
          <a:solidFill>
            <a:srgbClr val="cbd2d5"/>
          </a:solidFill>
          <a:ln w="3240">
            <a:solidFill>
              <a:srgbClr val="d1d0c8"/>
            </a:solidFill>
            <a:miter/>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14"/>
          <p:cNvSpPr/>
          <p:nvPr/>
        </p:nvSpPr>
        <p:spPr>
          <a:xfrm rot="10800000">
            <a:off x="258840" y="1593000"/>
            <a:ext cx="3574800" cy="65160"/>
          </a:xfrm>
          <a:prstGeom prst="rect">
            <a:avLst/>
          </a:prstGeom>
          <a:solidFill>
            <a:srgbClr val="cbd2d5"/>
          </a:solidFill>
          <a:ln w="3240">
            <a:solidFill>
              <a:srgbClr val="d1d0c8"/>
            </a:solidFill>
            <a:miter/>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73" name="PlaceHolder 3"/>
          <p:cNvSpPr>
            <a:spLocks noGrp="1"/>
          </p:cNvSpPr>
          <p:nvPr>
            <p:ph type="dt" idx="30"/>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6C7D-AC7A-452E-B735-5DBFD2D6BDB5}"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74" name="PlaceHolder 4"/>
          <p:cNvSpPr>
            <a:spLocks noGrp="1"/>
          </p:cNvSpPr>
          <p:nvPr>
            <p:ph type="ftr" idx="31"/>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475" name="PlaceHolder 5"/>
          <p:cNvSpPr>
            <a:spLocks noGrp="1"/>
          </p:cNvSpPr>
          <p:nvPr>
            <p:ph type="sldNum" idx="32"/>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152C-57A1-46C5-9F53-D5A63FC571E6}"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2" name="Group 32"/>
          <p:cNvGrpSpPr/>
          <p:nvPr/>
        </p:nvGrpSpPr>
        <p:grpSpPr>
          <a:xfrm>
            <a:off x="182520" y="173160"/>
            <a:ext cx="8778960" cy="6511680"/>
            <a:chOff x="182520" y="173160"/>
            <a:chExt cx="8778960" cy="6511680"/>
          </a:xfrm>
        </p:grpSpPr>
        <p:grpSp>
          <p:nvGrpSpPr>
            <p:cNvPr id="513" name="Group 26"/>
            <p:cNvGrpSpPr/>
            <p:nvPr/>
          </p:nvGrpSpPr>
          <p:grpSpPr>
            <a:xfrm>
              <a:off x="182520" y="173160"/>
              <a:ext cx="8778960" cy="6511680"/>
              <a:chOff x="182520" y="173160"/>
              <a:chExt cx="8778960" cy="6511680"/>
            </a:xfrm>
          </p:grpSpPr>
          <p:pic>
            <p:nvPicPr>
              <p:cNvPr id="514" name="Picture 9" descr="PaperPanel-Base.jpg"/>
              <p:cNvPicPr/>
              <p:nvPr/>
            </p:nvPicPr>
            <p:blipFill>
              <a:blip r:embed="rId3"/>
              <a:stretch/>
            </p:blipFill>
            <p:spPr>
              <a:xfrm>
                <a:off x="182520" y="173160"/>
                <a:ext cx="8778960" cy="6511680"/>
              </a:xfrm>
              <a:prstGeom prst="rect">
                <a:avLst/>
              </a:prstGeom>
              <a:ln w="0">
                <a:noFill/>
              </a:ln>
            </p:spPr>
          </p:pic>
          <p:grpSp>
            <p:nvGrpSpPr>
              <p:cNvPr id="515" name="Group 10"/>
              <p:cNvGrpSpPr/>
              <p:nvPr/>
            </p:nvGrpSpPr>
            <p:grpSpPr>
              <a:xfrm>
                <a:off x="378000" y="349560"/>
                <a:ext cx="8384760" cy="6146640"/>
                <a:chOff x="378000" y="349560"/>
                <a:chExt cx="8384760" cy="6146640"/>
              </a:xfrm>
            </p:grpSpPr>
            <p:sp>
              <p:nvSpPr>
                <p:cNvPr id="516" name="Rectangle 11"/>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Straight Connector 12"/>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518" name="Rectangle 8"/>
            <p:cNvSpPr/>
            <p:nvPr/>
          </p:nvSpPr>
          <p:spPr>
            <a:xfrm rot="5400000">
              <a:off x="799560" y="3274200"/>
              <a:ext cx="6136920" cy="63720"/>
            </a:xfrm>
            <a:prstGeom prst="rect">
              <a:avLst/>
            </a:prstGeom>
            <a:solidFill>
              <a:srgbClr val="cbd2d5"/>
            </a:solidFill>
            <a:ln w="3240">
              <a:solidFill>
                <a:srgbClr val="d1d0c8"/>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20"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21" name="PlaceHolder 3"/>
          <p:cNvSpPr>
            <a:spLocks noGrp="1"/>
          </p:cNvSpPr>
          <p:nvPr>
            <p:ph type="dt" idx="33"/>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59ED-8B17-4D0F-8AAC-A20AAAE2C53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522" name="PlaceHolder 4"/>
          <p:cNvSpPr>
            <a:spLocks noGrp="1"/>
          </p:cNvSpPr>
          <p:nvPr>
            <p:ph type="ftr" idx="34"/>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523" name="PlaceHolder 5"/>
          <p:cNvSpPr>
            <a:spLocks noGrp="1"/>
          </p:cNvSpPr>
          <p:nvPr>
            <p:ph type="sldNum" idx="35"/>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370C-B976-487A-A682-D0C5CA134220}"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0" name="Group 26"/>
          <p:cNvGrpSpPr/>
          <p:nvPr/>
        </p:nvGrpSpPr>
        <p:grpSpPr>
          <a:xfrm>
            <a:off x="182520" y="173160"/>
            <a:ext cx="8778960" cy="6511680"/>
            <a:chOff x="182520" y="173160"/>
            <a:chExt cx="8778960" cy="6511680"/>
          </a:xfrm>
        </p:grpSpPr>
        <p:pic>
          <p:nvPicPr>
            <p:cNvPr id="561" name="Picture 7" descr="PaperPanel-Base.jpg"/>
            <p:cNvPicPr/>
            <p:nvPr/>
          </p:nvPicPr>
          <p:blipFill>
            <a:blip r:embed="rId3"/>
            <a:stretch/>
          </p:blipFill>
          <p:spPr>
            <a:xfrm>
              <a:off x="182520" y="173160"/>
              <a:ext cx="8778960" cy="6511680"/>
            </a:xfrm>
            <a:prstGeom prst="rect">
              <a:avLst/>
            </a:prstGeom>
            <a:ln w="0">
              <a:noFill/>
            </a:ln>
          </p:spPr>
        </p:pic>
        <p:grpSp>
          <p:nvGrpSpPr>
            <p:cNvPr id="562" name="Group 10"/>
            <p:cNvGrpSpPr/>
            <p:nvPr/>
          </p:nvGrpSpPr>
          <p:grpSpPr>
            <a:xfrm>
              <a:off x="378000" y="349560"/>
              <a:ext cx="8384760" cy="6146640"/>
              <a:chOff x="378000" y="349560"/>
              <a:chExt cx="8384760" cy="6146640"/>
            </a:xfrm>
          </p:grpSpPr>
          <p:sp>
            <p:nvSpPr>
              <p:cNvPr id="563"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565" name="Rectangle 11"/>
          <p:cNvSpPr/>
          <p:nvPr/>
        </p:nvSpPr>
        <p:spPr>
          <a:xfrm>
            <a:off x="255600" y="4203720"/>
            <a:ext cx="86234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12"/>
          <p:cNvSpPr/>
          <p:nvPr/>
        </p:nvSpPr>
        <p:spPr>
          <a:xfrm>
            <a:off x="255600" y="4203720"/>
            <a:ext cx="86234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568"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569" name="PlaceHolder 3"/>
          <p:cNvSpPr>
            <a:spLocks noGrp="1"/>
          </p:cNvSpPr>
          <p:nvPr>
            <p:ph type="dt" idx="36"/>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12F4-4D3B-44DA-B7FC-44A39A643E9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570" name="PlaceHolder 4"/>
          <p:cNvSpPr>
            <a:spLocks noGrp="1"/>
          </p:cNvSpPr>
          <p:nvPr>
            <p:ph type="ftr" idx="37"/>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571" name="PlaceHolder 5"/>
          <p:cNvSpPr>
            <a:spLocks noGrp="1"/>
          </p:cNvSpPr>
          <p:nvPr>
            <p:ph type="sldNum" idx="38"/>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8C5C-9F8B-4694-A6C4-CDB93476CA9C}"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8" name="Group 19"/>
          <p:cNvGrpSpPr/>
          <p:nvPr/>
        </p:nvGrpSpPr>
        <p:grpSpPr>
          <a:xfrm>
            <a:off x="182520" y="173160"/>
            <a:ext cx="8778960" cy="6511680"/>
            <a:chOff x="182520" y="173160"/>
            <a:chExt cx="8778960" cy="6511680"/>
          </a:xfrm>
        </p:grpSpPr>
        <p:pic>
          <p:nvPicPr>
            <p:cNvPr id="609" name="Picture 7" descr="PaperPanel-Base.jpg"/>
            <p:cNvPicPr/>
            <p:nvPr/>
          </p:nvPicPr>
          <p:blipFill>
            <a:blip r:embed="rId3"/>
            <a:stretch/>
          </p:blipFill>
          <p:spPr>
            <a:xfrm>
              <a:off x="182520" y="173160"/>
              <a:ext cx="8778960" cy="6511680"/>
            </a:xfrm>
            <a:prstGeom prst="rect">
              <a:avLst/>
            </a:prstGeom>
            <a:ln w="0">
              <a:noFill/>
            </a:ln>
          </p:spPr>
        </p:pic>
        <p:grpSp>
          <p:nvGrpSpPr>
            <p:cNvPr id="610" name="Group 10"/>
            <p:cNvGrpSpPr/>
            <p:nvPr/>
          </p:nvGrpSpPr>
          <p:grpSpPr>
            <a:xfrm>
              <a:off x="378000" y="349560"/>
              <a:ext cx="8384760" cy="6146640"/>
              <a:chOff x="378000" y="349560"/>
              <a:chExt cx="8384760" cy="6146640"/>
            </a:xfrm>
          </p:grpSpPr>
          <p:sp>
            <p:nvSpPr>
              <p:cNvPr id="611"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3"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1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1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16" name="PlaceHolder 3"/>
          <p:cNvSpPr>
            <a:spLocks noGrp="1"/>
          </p:cNvSpPr>
          <p:nvPr>
            <p:ph type="dt" idx="39"/>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50A6-344F-46FF-8470-DCB6669A928E}"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617" name="PlaceHolder 4"/>
          <p:cNvSpPr>
            <a:spLocks noGrp="1"/>
          </p:cNvSpPr>
          <p:nvPr>
            <p:ph type="ftr" idx="40"/>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618" name="PlaceHolder 5"/>
          <p:cNvSpPr>
            <a:spLocks noGrp="1"/>
          </p:cNvSpPr>
          <p:nvPr>
            <p:ph type="sldNum" idx="41"/>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2D01-701B-42AA-98E5-361054211533}"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5" name="Group 19"/>
          <p:cNvGrpSpPr/>
          <p:nvPr/>
        </p:nvGrpSpPr>
        <p:grpSpPr>
          <a:xfrm>
            <a:off x="182520" y="173160"/>
            <a:ext cx="8778960" cy="6511680"/>
            <a:chOff x="182520" y="173160"/>
            <a:chExt cx="8778960" cy="6511680"/>
          </a:xfrm>
        </p:grpSpPr>
        <p:pic>
          <p:nvPicPr>
            <p:cNvPr id="656" name="Picture 7" descr="PaperPanel-Base.jpg"/>
            <p:cNvPicPr/>
            <p:nvPr/>
          </p:nvPicPr>
          <p:blipFill>
            <a:blip r:embed="rId3"/>
            <a:stretch/>
          </p:blipFill>
          <p:spPr>
            <a:xfrm>
              <a:off x="182520" y="173160"/>
              <a:ext cx="8778960" cy="6511680"/>
            </a:xfrm>
            <a:prstGeom prst="rect">
              <a:avLst/>
            </a:prstGeom>
            <a:ln w="0">
              <a:noFill/>
            </a:ln>
          </p:spPr>
        </p:pic>
        <p:grpSp>
          <p:nvGrpSpPr>
            <p:cNvPr id="657" name="Group 10"/>
            <p:cNvGrpSpPr/>
            <p:nvPr/>
          </p:nvGrpSpPr>
          <p:grpSpPr>
            <a:xfrm>
              <a:off x="378000" y="349560"/>
              <a:ext cx="8384760" cy="6146640"/>
              <a:chOff x="378000" y="349560"/>
              <a:chExt cx="8384760" cy="6146640"/>
            </a:xfrm>
          </p:grpSpPr>
          <p:sp>
            <p:nvSpPr>
              <p:cNvPr id="658"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660" name="Rectangle 11"/>
          <p:cNvSpPr/>
          <p:nvPr/>
        </p:nvSpPr>
        <p:spPr>
          <a:xfrm rot="5400000">
            <a:off x="4242240" y="3274200"/>
            <a:ext cx="61358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Rectangle 12"/>
          <p:cNvSpPr/>
          <p:nvPr/>
        </p:nvSpPr>
        <p:spPr>
          <a:xfrm rot="5400000">
            <a:off x="4242240" y="3274200"/>
            <a:ext cx="6135840" cy="63360"/>
          </a:xfrm>
          <a:prstGeom prst="rect">
            <a:avLst/>
          </a:prstGeom>
          <a:solidFill>
            <a:srgbClr val="cbd2d5"/>
          </a:solidFill>
          <a:ln w="3240">
            <a:solidFill>
              <a:srgbClr val="d1d0c8"/>
            </a:solidFill>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663"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664" name="PlaceHolder 3"/>
          <p:cNvSpPr>
            <a:spLocks noGrp="1"/>
          </p:cNvSpPr>
          <p:nvPr>
            <p:ph type="dt" idx="4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3C40-82C0-48B1-8BE5-CCE59F04DC17}"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665" name="PlaceHolder 4"/>
          <p:cNvSpPr>
            <a:spLocks noGrp="1"/>
          </p:cNvSpPr>
          <p:nvPr>
            <p:ph type="ftr" idx="43"/>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666" name="PlaceHolder 5"/>
          <p:cNvSpPr>
            <a:spLocks noGrp="1"/>
          </p:cNvSpPr>
          <p:nvPr>
            <p:ph type="sldNum" idx="44"/>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1422-984C-4712-B7E0-4E7D01892DBC}"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7"/>
          <p:cNvGrpSpPr/>
          <p:nvPr/>
        </p:nvGrpSpPr>
        <p:grpSpPr>
          <a:xfrm>
            <a:off x="487440" y="411120"/>
            <a:ext cx="8169120" cy="6035760"/>
            <a:chOff x="487440" y="411120"/>
            <a:chExt cx="8169120" cy="6035760"/>
          </a:xfrm>
        </p:grpSpPr>
        <p:pic>
          <p:nvPicPr>
            <p:cNvPr id="42" name="Picture 7" descr="PaperPanel-Title.jpg"/>
            <p:cNvPicPr/>
            <p:nvPr/>
          </p:nvPicPr>
          <p:blipFill>
            <a:blip r:embed="rId3"/>
            <a:stretch/>
          </p:blipFill>
          <p:spPr>
            <a:xfrm>
              <a:off x="487440" y="411120"/>
              <a:ext cx="8169120" cy="6035760"/>
            </a:xfrm>
            <a:prstGeom prst="rect">
              <a:avLst/>
            </a:prstGeom>
            <a:ln w="0">
              <a:noFill/>
            </a:ln>
          </p:spPr>
        </p:pic>
        <p:sp>
          <p:nvSpPr>
            <p:cNvPr id="43" name="Rectangle 8"/>
            <p:cNvSpPr/>
            <p:nvPr/>
          </p:nvSpPr>
          <p:spPr>
            <a:xfrm>
              <a:off x="684360" y="581400"/>
              <a:ext cx="7746480" cy="568296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Straight Connector 9"/>
            <p:cNvSpPr/>
            <p:nvPr/>
          </p:nvSpPr>
          <p:spPr>
            <a:xfrm>
              <a:off x="684360" y="6042240"/>
              <a:ext cx="7746480" cy="1080"/>
            </a:xfrm>
            <a:prstGeom prst="line">
              <a:avLst/>
            </a:prstGeom>
            <a:ln w="12600">
              <a:solidFill>
                <a:srgbClr val="bebdb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45" name="Rectangle 10"/>
            <p:cNvSpPr/>
            <p:nvPr/>
          </p:nvSpPr>
          <p:spPr>
            <a:xfrm>
              <a:off x="684360" y="563760"/>
              <a:ext cx="7746480" cy="2488320"/>
            </a:xfrm>
            <a:prstGeom prst="rect">
              <a:avLst/>
            </a:prstGeom>
            <a:solidFill>
              <a:srgbClr val="cbd2d5"/>
            </a:solidFill>
            <a:ln w="3240">
              <a:solidFill>
                <a:srgbClr val="d1d0c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47"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48" name="PlaceHolder 3"/>
          <p:cNvSpPr>
            <a:spLocks noGrp="1"/>
          </p:cNvSpPr>
          <p:nvPr>
            <p:ph type="dt" idx="4"/>
          </p:nvPr>
        </p:nvSpPr>
        <p:spPr>
          <a:xfrm>
            <a:off x="57276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5D64-B029-4E06-89CC-BE15F9259206}"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5638680" y="6122520"/>
            <a:ext cx="2895840" cy="257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4191120" y="612288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AF05-2349-4247-968E-492121AD2B5C}"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15"/>
          <p:cNvGrpSpPr/>
          <p:nvPr/>
        </p:nvGrpSpPr>
        <p:grpSpPr>
          <a:xfrm>
            <a:off x="182520" y="173160"/>
            <a:ext cx="8778960" cy="6511680"/>
            <a:chOff x="182520" y="173160"/>
            <a:chExt cx="8778960" cy="6511680"/>
          </a:xfrm>
        </p:grpSpPr>
        <p:pic>
          <p:nvPicPr>
            <p:cNvPr id="88" name="Picture 7" descr="PaperPanel-Base.jpg"/>
            <p:cNvPicPr/>
            <p:nvPr/>
          </p:nvPicPr>
          <p:blipFill>
            <a:blip r:embed="rId3"/>
            <a:stretch/>
          </p:blipFill>
          <p:spPr>
            <a:xfrm>
              <a:off x="182520" y="173160"/>
              <a:ext cx="8778960" cy="6511680"/>
            </a:xfrm>
            <a:prstGeom prst="rect">
              <a:avLst/>
            </a:prstGeom>
            <a:ln w="0">
              <a:noFill/>
            </a:ln>
          </p:spPr>
        </p:pic>
        <p:grpSp>
          <p:nvGrpSpPr>
            <p:cNvPr id="89" name="Group 10"/>
            <p:cNvGrpSpPr/>
            <p:nvPr/>
          </p:nvGrpSpPr>
          <p:grpSpPr>
            <a:xfrm>
              <a:off x="378000" y="349560"/>
              <a:ext cx="8384760" cy="6146640"/>
              <a:chOff x="378000" y="349560"/>
              <a:chExt cx="8384760" cy="6146640"/>
            </a:xfrm>
          </p:grpSpPr>
          <p:sp>
            <p:nvSpPr>
              <p:cNvPr id="90"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9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9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95" name="PlaceHolder 3"/>
          <p:cNvSpPr>
            <a:spLocks noGrp="1"/>
          </p:cNvSpPr>
          <p:nvPr>
            <p:ph type="dt" idx="7"/>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0B34-233D-421D-889F-855FF858310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Times New Roman"/>
            </a:endParaRPr>
          </a:p>
        </p:txBody>
      </p:sp>
      <p:sp>
        <p:nvSpPr>
          <p:cNvPr id="97" name="PlaceHolder 5"/>
          <p:cNvSpPr>
            <a:spLocks noGrp="1"/>
          </p:cNvSpPr>
          <p:nvPr>
            <p:ph type="sldNum" idx="9"/>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91B0-158B-4912-8803-CFF363107037}"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4" name="Picture 6" descr="PaperPanel-Title.jpg"/>
          <p:cNvPicPr/>
          <p:nvPr/>
        </p:nvPicPr>
        <p:blipFill>
          <a:blip r:embed="rId3"/>
          <a:stretch/>
        </p:blipFill>
        <p:spPr>
          <a:xfrm>
            <a:off x="360360" y="298440"/>
            <a:ext cx="8418600" cy="6254640"/>
          </a:xfrm>
          <a:prstGeom prst="rect">
            <a:avLst/>
          </a:prstGeom>
          <a:ln w="0">
            <a:noFill/>
          </a:ln>
        </p:spPr>
      </p:pic>
      <p:grpSp>
        <p:nvGrpSpPr>
          <p:cNvPr id="135" name="Group 11"/>
          <p:cNvGrpSpPr/>
          <p:nvPr/>
        </p:nvGrpSpPr>
        <p:grpSpPr>
          <a:xfrm>
            <a:off x="563400" y="476280"/>
            <a:ext cx="7982280" cy="5888160"/>
            <a:chOff x="563400" y="476280"/>
            <a:chExt cx="7982280" cy="5888160"/>
          </a:xfrm>
        </p:grpSpPr>
        <p:sp>
          <p:nvSpPr>
            <p:cNvPr id="136" name="Rectangle 8"/>
            <p:cNvSpPr/>
            <p:nvPr/>
          </p:nvSpPr>
          <p:spPr>
            <a:xfrm>
              <a:off x="563400" y="476280"/>
              <a:ext cx="7982280" cy="588816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traight Connector 9"/>
            <p:cNvSpPr/>
            <p:nvPr/>
          </p:nvSpPr>
          <p:spPr>
            <a:xfrm>
              <a:off x="563400" y="6134040"/>
              <a:ext cx="798228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Straight Connector 10"/>
            <p:cNvSpPr/>
            <p:nvPr/>
          </p:nvSpPr>
          <p:spPr>
            <a:xfrm>
              <a:off x="563400" y="3427920"/>
              <a:ext cx="798228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39"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40"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41" name="PlaceHolder 3"/>
          <p:cNvSpPr>
            <a:spLocks noGrp="1"/>
          </p:cNvSpPr>
          <p:nvPr>
            <p:ph type="dt" idx="10"/>
          </p:nvPr>
        </p:nvSpPr>
        <p:spPr>
          <a:xfrm>
            <a:off x="569520" y="612252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E4B2-80A9-45EE-931E-9C8B1BD8DB4C}"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a:off x="5638680" y="6124680"/>
            <a:ext cx="289584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23"/>
          <p:cNvGrpSpPr/>
          <p:nvPr/>
        </p:nvGrpSpPr>
        <p:grpSpPr>
          <a:xfrm>
            <a:off x="182520" y="173160"/>
            <a:ext cx="8778960" cy="6511680"/>
            <a:chOff x="182520" y="173160"/>
            <a:chExt cx="8778960" cy="6511680"/>
          </a:xfrm>
        </p:grpSpPr>
        <p:pic>
          <p:nvPicPr>
            <p:cNvPr id="180" name="Picture 7" descr="PaperPanel-Base.jpg"/>
            <p:cNvPicPr/>
            <p:nvPr/>
          </p:nvPicPr>
          <p:blipFill>
            <a:blip r:embed="rId3"/>
            <a:stretch/>
          </p:blipFill>
          <p:spPr>
            <a:xfrm>
              <a:off x="182520" y="173160"/>
              <a:ext cx="8778960" cy="6511680"/>
            </a:xfrm>
            <a:prstGeom prst="rect">
              <a:avLst/>
            </a:prstGeom>
            <a:ln w="0">
              <a:noFill/>
            </a:ln>
          </p:spPr>
        </p:pic>
        <p:grpSp>
          <p:nvGrpSpPr>
            <p:cNvPr id="181" name="Group 10"/>
            <p:cNvGrpSpPr/>
            <p:nvPr/>
          </p:nvGrpSpPr>
          <p:grpSpPr>
            <a:xfrm>
              <a:off x="378000" y="349560"/>
              <a:ext cx="8384760" cy="6146640"/>
              <a:chOff x="378000" y="349560"/>
              <a:chExt cx="8384760" cy="6146640"/>
            </a:xfrm>
          </p:grpSpPr>
          <p:sp>
            <p:nvSpPr>
              <p:cNvPr id="182"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184"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185"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186" name="PlaceHolder 3"/>
          <p:cNvSpPr>
            <a:spLocks noGrp="1"/>
          </p:cNvSpPr>
          <p:nvPr>
            <p:ph type="dt" idx="12"/>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DD2C-D78B-430E-813B-0C4D70981816}"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187" name="PlaceHolder 4"/>
          <p:cNvSpPr>
            <a:spLocks noGrp="1"/>
          </p:cNvSpPr>
          <p:nvPr>
            <p:ph type="ftr" idx="13"/>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188" name="PlaceHolder 5"/>
          <p:cNvSpPr>
            <a:spLocks noGrp="1"/>
          </p:cNvSpPr>
          <p:nvPr>
            <p:ph type="sldNum" idx="14"/>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DD4A-7A79-449E-8DC9-6AC2B588AD12}"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5" name="Group 13"/>
          <p:cNvGrpSpPr/>
          <p:nvPr/>
        </p:nvGrpSpPr>
        <p:grpSpPr>
          <a:xfrm>
            <a:off x="182520" y="173160"/>
            <a:ext cx="8778960" cy="6511680"/>
            <a:chOff x="182520" y="173160"/>
            <a:chExt cx="8778960" cy="6511680"/>
          </a:xfrm>
        </p:grpSpPr>
        <p:pic>
          <p:nvPicPr>
            <p:cNvPr id="226" name="Picture 7" descr="PaperPanel-Base.jpg"/>
            <p:cNvPicPr/>
            <p:nvPr/>
          </p:nvPicPr>
          <p:blipFill>
            <a:blip r:embed="rId3"/>
            <a:stretch/>
          </p:blipFill>
          <p:spPr>
            <a:xfrm>
              <a:off x="182520" y="173160"/>
              <a:ext cx="8778960" cy="6511680"/>
            </a:xfrm>
            <a:prstGeom prst="rect">
              <a:avLst/>
            </a:prstGeom>
            <a:ln w="0">
              <a:noFill/>
            </a:ln>
          </p:spPr>
        </p:pic>
        <p:grpSp>
          <p:nvGrpSpPr>
            <p:cNvPr id="227" name="Group 10"/>
            <p:cNvGrpSpPr/>
            <p:nvPr/>
          </p:nvGrpSpPr>
          <p:grpSpPr>
            <a:xfrm>
              <a:off x="378000" y="349560"/>
              <a:ext cx="8384760" cy="6146640"/>
              <a:chOff x="378000" y="349560"/>
              <a:chExt cx="8384760" cy="6146640"/>
            </a:xfrm>
          </p:grpSpPr>
          <p:sp>
            <p:nvSpPr>
              <p:cNvPr id="228"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31"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32"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33" name="PlaceHolder 3"/>
          <p:cNvSpPr>
            <a:spLocks noGrp="1"/>
          </p:cNvSpPr>
          <p:nvPr>
            <p:ph type="dt" idx="15"/>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A766-7E90-4F15-A0A6-37B8FABB8CB7}"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234" name="PlaceHolder 4"/>
          <p:cNvSpPr>
            <a:spLocks noGrp="1"/>
          </p:cNvSpPr>
          <p:nvPr>
            <p:ph type="ftr" idx="16"/>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235" name="PlaceHolder 5"/>
          <p:cNvSpPr>
            <a:spLocks noGrp="1"/>
          </p:cNvSpPr>
          <p:nvPr>
            <p:ph type="sldNum" idx="17"/>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4AF2-6A09-45C1-9AED-8EA235E36152}"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Group 16"/>
          <p:cNvGrpSpPr/>
          <p:nvPr/>
        </p:nvGrpSpPr>
        <p:grpSpPr>
          <a:xfrm>
            <a:off x="182520" y="173160"/>
            <a:ext cx="8778960" cy="6511680"/>
            <a:chOff x="182520" y="173160"/>
            <a:chExt cx="8778960" cy="6511680"/>
          </a:xfrm>
        </p:grpSpPr>
        <p:pic>
          <p:nvPicPr>
            <p:cNvPr id="273" name="Picture 7" descr="PaperPanel-Base.jpg"/>
            <p:cNvPicPr/>
            <p:nvPr/>
          </p:nvPicPr>
          <p:blipFill>
            <a:blip r:embed="rId3"/>
            <a:stretch/>
          </p:blipFill>
          <p:spPr>
            <a:xfrm>
              <a:off x="182520" y="173160"/>
              <a:ext cx="8778960" cy="6511680"/>
            </a:xfrm>
            <a:prstGeom prst="rect">
              <a:avLst/>
            </a:prstGeom>
            <a:ln w="0">
              <a:noFill/>
            </a:ln>
          </p:spPr>
        </p:pic>
        <p:grpSp>
          <p:nvGrpSpPr>
            <p:cNvPr id="274" name="Group 8"/>
            <p:cNvGrpSpPr/>
            <p:nvPr/>
          </p:nvGrpSpPr>
          <p:grpSpPr>
            <a:xfrm>
              <a:off x="378000" y="349560"/>
              <a:ext cx="8384760" cy="6146640"/>
              <a:chOff x="378000" y="349560"/>
              <a:chExt cx="8384760" cy="6146640"/>
            </a:xfrm>
          </p:grpSpPr>
          <p:sp>
            <p:nvSpPr>
              <p:cNvPr id="275"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7"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78" name="Straight Connector 12"/>
          <p:cNvSpPr/>
          <p:nvPr/>
        </p:nvSpPr>
        <p:spPr>
          <a:xfrm>
            <a:off x="4572000" y="1671480"/>
            <a:ext cx="1440" cy="4711680"/>
          </a:xfrm>
          <a:prstGeom prst="line">
            <a:avLst/>
          </a:prstGeom>
          <a:ln w="12600">
            <a:solidFill>
              <a:srgbClr val="bebd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13"/>
          <p:cNvSpPr/>
          <p:nvPr/>
        </p:nvSpPr>
        <p:spPr>
          <a:xfrm>
            <a:off x="4572000" y="1671480"/>
            <a:ext cx="1440" cy="4711680"/>
          </a:xfrm>
          <a:prstGeom prst="line">
            <a:avLst/>
          </a:prstGeom>
          <a:ln w="12600">
            <a:solidFill>
              <a:srgbClr val="bebd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281"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282" name="PlaceHolder 3"/>
          <p:cNvSpPr>
            <a:spLocks noGrp="1"/>
          </p:cNvSpPr>
          <p:nvPr>
            <p:ph type="dt" idx="18"/>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2D5D-DD6E-48BE-BDB0-7177B080C513}"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283" name="PlaceHolder 4"/>
          <p:cNvSpPr>
            <a:spLocks noGrp="1"/>
          </p:cNvSpPr>
          <p:nvPr>
            <p:ph type="ftr" idx="19"/>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284" name="PlaceHolder 5"/>
          <p:cNvSpPr>
            <a:spLocks noGrp="1"/>
          </p:cNvSpPr>
          <p:nvPr>
            <p:ph type="sldNum" idx="20"/>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BB47-31AF-48CB-897B-95A6BF76B770}"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1" name="Group 18"/>
          <p:cNvGrpSpPr/>
          <p:nvPr/>
        </p:nvGrpSpPr>
        <p:grpSpPr>
          <a:xfrm>
            <a:off x="182520" y="173160"/>
            <a:ext cx="8778960" cy="6511680"/>
            <a:chOff x="182520" y="173160"/>
            <a:chExt cx="8778960" cy="6511680"/>
          </a:xfrm>
        </p:grpSpPr>
        <p:pic>
          <p:nvPicPr>
            <p:cNvPr id="322" name="Picture 7" descr="PaperPanel-Base.jpg"/>
            <p:cNvPicPr/>
            <p:nvPr/>
          </p:nvPicPr>
          <p:blipFill>
            <a:blip r:embed="rId3"/>
            <a:stretch/>
          </p:blipFill>
          <p:spPr>
            <a:xfrm>
              <a:off x="182520" y="173160"/>
              <a:ext cx="8778960" cy="6511680"/>
            </a:xfrm>
            <a:prstGeom prst="rect">
              <a:avLst/>
            </a:prstGeom>
            <a:ln w="0">
              <a:noFill/>
            </a:ln>
          </p:spPr>
        </p:pic>
        <p:grpSp>
          <p:nvGrpSpPr>
            <p:cNvPr id="323" name="Group 10"/>
            <p:cNvGrpSpPr/>
            <p:nvPr/>
          </p:nvGrpSpPr>
          <p:grpSpPr>
            <a:xfrm>
              <a:off x="378000" y="349560"/>
              <a:ext cx="8384760" cy="6146640"/>
              <a:chOff x="378000" y="349560"/>
              <a:chExt cx="8384760" cy="6146640"/>
            </a:xfrm>
          </p:grpSpPr>
          <p:sp>
            <p:nvSpPr>
              <p:cNvPr id="324"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6" name="Rectangle 11"/>
              <p:cNvSpPr/>
              <p:nvPr/>
            </p:nvSpPr>
            <p:spPr>
              <a:xfrm>
                <a:off x="378000" y="1667880"/>
                <a:ext cx="8384760" cy="61560"/>
              </a:xfrm>
              <a:prstGeom prst="rect">
                <a:avLst/>
              </a:prstGeom>
              <a:solidFill>
                <a:srgbClr val="cbd2d5"/>
              </a:solidFill>
              <a:ln w="3240">
                <a:solidFill>
                  <a:srgbClr val="d1d0c8"/>
                </a:solidFill>
                <a:miter/>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27"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28"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29" name="PlaceHolder 3"/>
          <p:cNvSpPr>
            <a:spLocks noGrp="1"/>
          </p:cNvSpPr>
          <p:nvPr>
            <p:ph type="dt" idx="21"/>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882F-EC56-4692-BD95-42D3520836B6}"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30" name="PlaceHolder 4"/>
          <p:cNvSpPr>
            <a:spLocks noGrp="1"/>
          </p:cNvSpPr>
          <p:nvPr>
            <p:ph type="ftr" idx="22"/>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331" name="PlaceHolder 5"/>
          <p:cNvSpPr>
            <a:spLocks noGrp="1"/>
          </p:cNvSpPr>
          <p:nvPr>
            <p:ph type="sldNum" idx="23"/>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4C8A-2752-4737-936A-B5D1DC6EB7B0}"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8" name="Group 17"/>
          <p:cNvGrpSpPr/>
          <p:nvPr/>
        </p:nvGrpSpPr>
        <p:grpSpPr>
          <a:xfrm>
            <a:off x="182520" y="173160"/>
            <a:ext cx="8778960" cy="6511680"/>
            <a:chOff x="182520" y="173160"/>
            <a:chExt cx="8778960" cy="6511680"/>
          </a:xfrm>
        </p:grpSpPr>
        <p:pic>
          <p:nvPicPr>
            <p:cNvPr id="369" name="Picture 7" descr="PaperPanel-Base.jpg"/>
            <p:cNvPicPr/>
            <p:nvPr/>
          </p:nvPicPr>
          <p:blipFill>
            <a:blip r:embed="rId3"/>
            <a:stretch/>
          </p:blipFill>
          <p:spPr>
            <a:xfrm>
              <a:off x="182520" y="173160"/>
              <a:ext cx="8778960" cy="6511680"/>
            </a:xfrm>
            <a:prstGeom prst="rect">
              <a:avLst/>
            </a:prstGeom>
            <a:ln w="0">
              <a:noFill/>
            </a:ln>
          </p:spPr>
        </p:pic>
        <p:grpSp>
          <p:nvGrpSpPr>
            <p:cNvPr id="370" name="Group 10"/>
            <p:cNvGrpSpPr/>
            <p:nvPr/>
          </p:nvGrpSpPr>
          <p:grpSpPr>
            <a:xfrm>
              <a:off x="378000" y="349560"/>
              <a:ext cx="8384760" cy="6146640"/>
              <a:chOff x="378000" y="349560"/>
              <a:chExt cx="8384760" cy="6146640"/>
            </a:xfrm>
          </p:grpSpPr>
          <p:sp>
            <p:nvSpPr>
              <p:cNvPr id="371" name="Rectangle 9"/>
              <p:cNvSpPr/>
              <p:nvPr/>
            </p:nvSpPr>
            <p:spPr>
              <a:xfrm>
                <a:off x="378000" y="349560"/>
                <a:ext cx="8384760" cy="6146640"/>
              </a:xfrm>
              <a:prstGeom prst="rect">
                <a:avLst/>
              </a:prstGeom>
              <a:noFill/>
              <a:ln w="12600">
                <a:solidFill>
                  <a:srgbClr val="bebd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Straight Connector 10"/>
              <p:cNvSpPr/>
              <p:nvPr/>
            </p:nvSpPr>
            <p:spPr>
              <a:xfrm>
                <a:off x="378000" y="6281280"/>
                <a:ext cx="8384760" cy="1440"/>
              </a:xfrm>
              <a:prstGeom prst="line">
                <a:avLst/>
              </a:prstGeom>
              <a:ln w="12600">
                <a:solidFill>
                  <a:srgbClr val="bebd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373" name="PlaceHolder 1"/>
          <p:cNvSpPr>
            <a:spLocks noGrp="1"/>
          </p:cNvSpPr>
          <p:nvPr>
            <p:ph type="title"/>
          </p:nvPr>
        </p:nvSpPr>
        <p:spPr>
          <a:xfrm>
            <a:off x="900000" y="244440"/>
            <a:ext cx="734544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Click to edit the title text format</a:t>
            </a:r>
            <a:endParaRPr b="0" lang="en-US" sz="4800" spc="-1" strike="noStrike">
              <a:solidFill>
                <a:srgbClr val="404040"/>
              </a:solidFill>
              <a:latin typeface="Calisto MT"/>
            </a:endParaRPr>
          </a:p>
        </p:txBody>
      </p:sp>
      <p:sp>
        <p:nvSpPr>
          <p:cNvPr id="374" name="PlaceHolder 2"/>
          <p:cNvSpPr>
            <a:spLocks noGrp="1"/>
          </p:cNvSpPr>
          <p:nvPr>
            <p:ph type="body"/>
          </p:nvPr>
        </p:nvSpPr>
        <p:spPr>
          <a:xfrm>
            <a:off x="900000" y="2133360"/>
            <a:ext cx="7345440" cy="3932280"/>
          </a:xfrm>
          <a:prstGeom prst="rect">
            <a:avLst/>
          </a:prstGeom>
          <a:noFill/>
          <a:ln w="0">
            <a:noFill/>
          </a:ln>
        </p:spPr>
        <p:txBody>
          <a:bodyPr lIns="90000" rIns="90000" tIns="46800" bIns="46800"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lick to edit the outline text format</a:t>
            </a:r>
            <a:endParaRPr b="0" lang="en-US" sz="2400" spc="-1" strike="noStrike">
              <a:solidFill>
                <a:srgbClr val="404040"/>
              </a:solidFill>
              <a:latin typeface="Calisto MT"/>
            </a:endParaRPr>
          </a:p>
          <a:p>
            <a:pPr lvl="1" marL="54468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cond Outline Level</a:t>
            </a:r>
            <a:endParaRPr b="0" lang="en-US" sz="2400" spc="-1" strike="noStrike">
              <a:solidFill>
                <a:srgbClr val="404040"/>
              </a:solidFill>
              <a:latin typeface="Calisto MT"/>
            </a:endParaRPr>
          </a:p>
          <a:p>
            <a:pPr lvl="2" marL="75960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rd Outline Level</a:t>
            </a:r>
            <a:endParaRPr b="0" lang="en-US" sz="2400" spc="-1" strike="noStrike">
              <a:solidFill>
                <a:srgbClr val="404040"/>
              </a:solidFill>
              <a:latin typeface="Calisto MT"/>
            </a:endParaRPr>
          </a:p>
          <a:p>
            <a:pPr lvl="3" marL="974520" indent="-214560">
              <a:spcBef>
                <a:spcPts val="20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ourth Outline Level</a:t>
            </a:r>
            <a:endParaRPr b="0" lang="en-US" sz="2400" spc="-1" strike="noStrike">
              <a:solidFill>
                <a:srgbClr val="404040"/>
              </a:solidFill>
              <a:latin typeface="Calisto MT"/>
            </a:endParaRPr>
          </a:p>
          <a:p>
            <a:pPr lvl="4" marL="1189440" indent="-21456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Fifth Outline Level</a:t>
            </a:r>
            <a:endParaRPr b="0" lang="en-US" sz="2400" spc="-1" strike="noStrike">
              <a:solidFill>
                <a:srgbClr val="404040"/>
              </a:solidFill>
              <a:latin typeface="Calisto MT"/>
            </a:endParaRPr>
          </a:p>
          <a:p>
            <a:pPr lvl="5"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ixth Outline Level</a:t>
            </a:r>
            <a:endParaRPr b="0" lang="en-US" sz="2400" spc="-1" strike="noStrike">
              <a:solidFill>
                <a:srgbClr val="404040"/>
              </a:solidFill>
              <a:latin typeface="Calisto MT"/>
            </a:endParaRPr>
          </a:p>
          <a:p>
            <a:pPr lvl="6" marL="1189440" indent="-214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eventh Outline Level</a:t>
            </a:r>
            <a:endParaRPr b="0" lang="en-US" sz="2400" spc="-1" strike="noStrike">
              <a:solidFill>
                <a:srgbClr val="404040"/>
              </a:solidFill>
              <a:latin typeface="Calisto MT"/>
            </a:endParaRPr>
          </a:p>
        </p:txBody>
      </p:sp>
      <p:sp>
        <p:nvSpPr>
          <p:cNvPr id="375" name="PlaceHolder 3"/>
          <p:cNvSpPr>
            <a:spLocks noGrp="1"/>
          </p:cNvSpPr>
          <p:nvPr>
            <p:ph type="dt" idx="24"/>
          </p:nvPr>
        </p:nvSpPr>
        <p:spPr>
          <a:xfrm>
            <a:off x="244080" y="6372360"/>
            <a:ext cx="2133720" cy="258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0B79-2F06-44A9-9A4C-3957BE0DD192}" type="datetime">
              <a:rPr b="0" lang="en-US" sz="1200" spc="-1" strike="noStrike">
                <a:solidFill>
                  <a:srgbClr val="b0bcc1"/>
                </a:solidFill>
                <a:latin typeface="Brush Script MT"/>
              </a:rPr>
              <a:t>07/30/26</a:t>
            </a:fld>
            <a:endParaRPr b="0" lang="en-US" sz="1200" spc="-1" strike="noStrike">
              <a:solidFill>
                <a:srgbClr val="000000"/>
              </a:solidFill>
              <a:latin typeface="Times New Roman"/>
            </a:endParaRPr>
          </a:p>
        </p:txBody>
      </p:sp>
      <p:sp>
        <p:nvSpPr>
          <p:cNvPr id="376" name="PlaceHolder 4"/>
          <p:cNvSpPr>
            <a:spLocks noGrp="1"/>
          </p:cNvSpPr>
          <p:nvPr>
            <p:ph type="ftr" idx="25"/>
          </p:nvPr>
        </p:nvSpPr>
        <p:spPr>
          <a:xfrm>
            <a:off x="5959080" y="6372360"/>
            <a:ext cx="2895480" cy="257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Brush Script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09</a:t>
            </a:r>
            <a:endParaRPr b="0" lang="en-US" sz="1200" spc="-1" strike="noStrike">
              <a:solidFill>
                <a:srgbClr val="000000"/>
              </a:solidFill>
              <a:latin typeface="Times New Roman"/>
            </a:endParaRPr>
          </a:p>
        </p:txBody>
      </p:sp>
      <p:sp>
        <p:nvSpPr>
          <p:cNvPr id="377" name="PlaceHolder 5"/>
          <p:cNvSpPr>
            <a:spLocks noGrp="1"/>
          </p:cNvSpPr>
          <p:nvPr>
            <p:ph type="sldNum" idx="26"/>
          </p:nvPr>
        </p:nvSpPr>
        <p:spPr>
          <a:xfrm>
            <a:off x="4191120" y="6356520"/>
            <a:ext cx="761760" cy="271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cc1"/>
                </a:solidFill>
                <a:latin typeface="Calisto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A806-A4C7-409F-B9B0-8BB655FE9B78}"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466640"/>
            <a:ext cx="7772400" cy="135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404040"/>
                </a:solidFill>
                <a:latin typeface="Calisto MT"/>
              </a:rPr>
              <a:t>The Threat Environment:</a:t>
            </a:r>
            <a:br>
              <a:rPr sz="4900"/>
            </a:br>
            <a:r>
              <a:rPr b="0" lang="en-US" sz="4900" spc="-1" strike="noStrike">
                <a:solidFill>
                  <a:srgbClr val="404040"/>
                </a:solidFill>
                <a:latin typeface="Calisto MT"/>
              </a:rPr>
              <a:t>Attackers and Their Attacks</a:t>
            </a:r>
            <a:endParaRPr b="0" lang="en-US" sz="4900" spc="-1" strike="noStrike">
              <a:solidFill>
                <a:srgbClr val="404040"/>
              </a:solidFill>
              <a:latin typeface="Calisto MT"/>
            </a:endParaRPr>
          </a:p>
        </p:txBody>
      </p:sp>
      <p:sp>
        <p:nvSpPr>
          <p:cNvPr id="711" name="PlaceHolder 2"/>
          <p:cNvSpPr>
            <a:spLocks noGrp="1"/>
          </p:cNvSpPr>
          <p:nvPr>
            <p:ph type="subTitle"/>
          </p:nvPr>
        </p:nvSpPr>
        <p:spPr>
          <a:xfrm>
            <a:off x="685800" y="3600360"/>
            <a:ext cx="7772400" cy="120024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hapter 1</a:t>
            </a:r>
            <a:endParaRPr b="0" lang="en-US" sz="2000" spc="-1" strike="noStrike">
              <a:solidFill>
                <a:srgbClr val="404040"/>
              </a:solidFill>
              <a:latin typeface="Calisto MT"/>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4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TJX Companies, Inc. (TJX)</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group of more than 2,500 retail stores companies operating in the United States, Canada, England, Ireland, and several other countr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es business under such names as TJ Maxx and Marshall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4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FDFF-9D09-404F-8C5A-68C33608BB1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5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iscovery</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 December 18, 2006, TJX detected “suspicious software” on its computer system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lled in security experts who confirmed an intrusion and probable data los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tified law enforcement immediatel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ly notified consumers a month later to get time to fix system and to allow law enforcement to investigate</a:t>
            </a:r>
            <a:endParaRPr b="0" lang="en-US" sz="2200" spc="-1" strike="noStrike">
              <a:solidFill>
                <a:srgbClr val="404040"/>
              </a:solidFill>
              <a:latin typeface="Calisto MT"/>
            </a:endParaRPr>
          </a:p>
        </p:txBody>
      </p:sp>
      <p:sp>
        <p:nvSpPr>
          <p:cNvPr id="75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B062-AA56-42F6-8034-3FC7065DB04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56"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iscovery</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wo waves of attacks, in 2005 and 2006</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any estimated that 45.7 million records with limited personal information included</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uch more information was stolen on 455,000 of these custom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5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5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CB0A-DF06-46DD-B419-6F2427D9294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0"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Break-In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roke into poorly protected wireless networks in retail stor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d this entry to break into central processing system in Massachuset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ot detected despite long presence, 80 GB data exfilt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adian privacy commission: poor encryption, keeping data that should not have been kep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6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3A8B-F08B-4038-9594-29BCF9E7EEC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4"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Payment Card Industry-Data Security Standard (PCI-DS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ules for companies that accept credit card purchas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f noncompliant, can lose the ability to process credit card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12 required control objectiv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JX knew it was not in compliance (later found to meet only 3 of 12 control objectiv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sa gave an extension to TJX in 2005, subject to progress report in June 2006</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6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48C0-F5C6-4400-AA1B-C73B6DAC588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2: The TJX Data Breach</a:t>
            </a:r>
            <a:endParaRPr b="0" lang="en-US" sz="4800" spc="-1" strike="noStrike">
              <a:solidFill>
                <a:srgbClr val="404040"/>
              </a:solidFill>
              <a:latin typeface="Calisto MT"/>
            </a:endParaRPr>
          </a:p>
        </p:txBody>
      </p:sp>
      <p:sp>
        <p:nvSpPr>
          <p:cNvPr id="768"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Fall-Out: Lawsuits and Investigation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ettled with most banks and banking associations for $40.9 million to cover card reissuing and other cost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sa levied $880,000 fine, which may later have been increased or decreased</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posed settlement with consumer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nder investigation by U.S. Federal Trade Commission and 37 state attorneys genera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JX has prepared for damages of $256 million as of August 2007</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6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1DDD-5802-404F-BD3A-CBCFC049E4E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sto MT"/>
              </a:rPr>
              <a:t>1-3: Employee and Ex-Employee Threats</a:t>
            </a:r>
            <a:endParaRPr b="0" lang="en-US" sz="3200" spc="-1" strike="noStrike">
              <a:solidFill>
                <a:srgbClr val="404040"/>
              </a:solidFill>
              <a:latin typeface="Calisto MT"/>
            </a:endParaRPr>
          </a:p>
        </p:txBody>
      </p:sp>
      <p:sp>
        <p:nvSpPr>
          <p:cNvPr id="77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s and Ex-Employees Are Dangerou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angerous because</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have knowledge of internal syste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often have the permissions to access syste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y often know how to avoid detec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mployees generally are trusted</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T and especially IT security professionals are the greatest employee threats (</a:t>
            </a:r>
            <a:r>
              <a:rPr b="0" i="1" lang="en-US" sz="2200" spc="-1" strike="noStrike">
                <a:solidFill>
                  <a:srgbClr val="404040"/>
                </a:solidFill>
                <a:latin typeface="Calisto MT"/>
              </a:rPr>
              <a:t>Qui custodiet custod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7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24B0-09A8-48D1-8176-4BE95640684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76"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Sabot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estruction of hardware, software, or data</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lant time bomb or logic bomb on computer</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Hacking</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Hacking is intentionally accessing a computer resource without authorization or in excess of authoriz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uthorization is the key</a:t>
            </a:r>
            <a:endParaRPr b="0" lang="en-US" sz="2200" spc="-1" strike="noStrike">
              <a:solidFill>
                <a:srgbClr val="404040"/>
              </a:solidFill>
              <a:latin typeface="Calisto MT"/>
            </a:endParaRPr>
          </a:p>
        </p:txBody>
      </p:sp>
      <p:sp>
        <p:nvSpPr>
          <p:cNvPr id="77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7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138F-4517-4C64-AB59-E762E8B108A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80" name=""/>
          <p:cNvSpPr txBox="1"/>
          <p:nvPr/>
        </p:nvSpPr>
        <p:spPr>
          <a:xfrm>
            <a:off x="457200" y="1828800"/>
            <a:ext cx="8229600" cy="41781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Financial Theft</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isappropriation of asset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ft of money</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ack in the late ‘80s or early 90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ny of this boils down to good internal controls; Separation of Duties</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Theft of Intellectual Property (IP)</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pyrights and patents (formally protected)</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s: plans, product formulations, business processes, and other info that a company wishes to keep secret from competitors</a:t>
            </a:r>
            <a:endParaRPr b="0" lang="en-US" sz="2200" spc="-1" strike="noStrike">
              <a:solidFill>
                <a:srgbClr val="404040"/>
              </a:solidFill>
              <a:latin typeface="Calisto MT"/>
            </a:endParaRPr>
          </a:p>
        </p:txBody>
      </p:sp>
      <p:sp>
        <p:nvSpPr>
          <p:cNvPr id="78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8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3A8E-F75E-462F-ADCA-59EAAD0F140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84" name=""/>
          <p:cNvSpPr txBox="1"/>
          <p:nvPr/>
        </p:nvSpPr>
        <p:spPr>
          <a:xfrm>
            <a:off x="457200" y="1828800"/>
            <a:ext cx="8229600" cy="41781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mployee Extortion</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erpetrator tries to obtain money or other goods by threatening to take actions that would be against the victim’s interest </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exual or Racial Harassment of Other Employee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Via e-mai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splaying pornographic material</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8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8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2834-974F-4065-8DFB-1AC3C9E8391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Orientation</a:t>
            </a:r>
            <a:endParaRPr b="0" lang="en-US" sz="4800" spc="-1" strike="noStrike">
              <a:solidFill>
                <a:srgbClr val="404040"/>
              </a:solidFill>
              <a:latin typeface="Calisto MT"/>
            </a:endParaRPr>
          </a:p>
        </p:txBody>
      </p:sp>
      <p:sp>
        <p:nvSpPr>
          <p:cNvPr id="713" name=""/>
          <p:cNvSpPr txBox="1"/>
          <p:nvPr/>
        </p:nvSpPr>
        <p:spPr>
          <a:xfrm>
            <a:off x="457200" y="1752120"/>
            <a:ext cx="8229600" cy="441972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This is a book about security defense, not how to att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efense is too complex to focus the book mostly on specific attack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However, this first chapter looks at the threat environment—attackers and their attacks</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Unless you understand the threats you face, you cannot prepare for defense</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All subsequent chapters focus on defense</a:t>
            </a:r>
            <a:endParaRPr b="0" lang="en-US" sz="2400" spc="-1" strike="noStrike">
              <a:solidFill>
                <a:srgbClr val="404040"/>
              </a:solidFill>
              <a:latin typeface="Calisto MT"/>
            </a:endParaRPr>
          </a:p>
        </p:txBody>
      </p:sp>
      <p:sp>
        <p:nvSpPr>
          <p:cNvPr id="71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1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A1BE-DABF-40B7-BB1A-752343522D3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88"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Internet Abus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ing pornography, which can lead to sexual harassment lawsuits and virus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ing pirated software, music, and video, which can lead to copyright violation penalt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cessive personal use of the Internet at work</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8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337-1CB9-47D8-B672-8C1F6EA3736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3: Employee and Ex-Employee Threats</a:t>
            </a:r>
            <a:endParaRPr b="0" lang="en-US" sz="4300" spc="-1" strike="noStrike">
              <a:solidFill>
                <a:srgbClr val="404040"/>
              </a:solidFill>
              <a:latin typeface="Calisto MT"/>
            </a:endParaRPr>
          </a:p>
        </p:txBody>
      </p:sp>
      <p:sp>
        <p:nvSpPr>
          <p:cNvPr id="792"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arelessnes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Loss of computers or data media containing sensitive inform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reless leading to the theft of such information</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Other “Internal” Attacke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ntract work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Workers in contracting compani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9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E3C6-BEE2-485C-A838-FB741267892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4: Classic Malware: Viruses and Worms</a:t>
            </a:r>
            <a:endParaRPr b="0" lang="en-US" sz="4300" spc="-1" strike="noStrike">
              <a:solidFill>
                <a:srgbClr val="404040"/>
              </a:solidFill>
              <a:latin typeface="Calisto MT"/>
            </a:endParaRPr>
          </a:p>
        </p:txBody>
      </p:sp>
      <p:sp>
        <p:nvSpPr>
          <p:cNvPr id="796" name=""/>
          <p:cNvSpPr txBox="1"/>
          <p:nvPr/>
        </p:nvSpPr>
        <p:spPr>
          <a:xfrm>
            <a:off x="457200" y="1676160"/>
            <a:ext cx="8229600" cy="43304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Malwar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generic name for any “evil software”</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Viru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grams that attach themselves to legitimate programs on the victim’s machin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pread today primarily by e-mail</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by instant messaging, file transfers,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Key Characteristic, can self-propagate to infect other hos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79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9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16AA-0990-4700-8500-B7A39348FFB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4: Classic Malware: Viruses and Worms</a:t>
            </a:r>
            <a:endParaRPr b="0" lang="en-US" sz="4300" spc="-1" strike="noStrike">
              <a:solidFill>
                <a:srgbClr val="404040"/>
              </a:solidFill>
              <a:latin typeface="Calisto MT"/>
            </a:endParaRPr>
          </a:p>
        </p:txBody>
      </p:sp>
      <p:sp>
        <p:nvSpPr>
          <p:cNvPr id="800" name=""/>
          <p:cNvSpPr txBox="1"/>
          <p:nvPr/>
        </p:nvSpPr>
        <p:spPr>
          <a:xfrm>
            <a:off x="457200" y="1828800"/>
            <a:ext cx="8229600" cy="41781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Worm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Full programs that do not attach themselves to other program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Like viruses, can spread by e-mail, instant messaging, and file transf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Key Characteristic, can self-propagate to infect other hosts</a:t>
            </a:r>
            <a:endParaRPr b="0" lang="en-US" sz="2200" spc="-1" strike="noStrike">
              <a:solidFill>
                <a:srgbClr val="404040"/>
              </a:solidFill>
              <a:latin typeface="Calisto MT"/>
            </a:endParaRPr>
          </a:p>
        </p:txBody>
      </p:sp>
      <p:sp>
        <p:nvSpPr>
          <p:cNvPr id="80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0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63DF-F16F-4F57-B711-535D737FE12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4: Classic Malware: Viruses and Worms</a:t>
            </a:r>
            <a:endParaRPr b="0" lang="en-US" sz="4300" spc="-1" strike="noStrike">
              <a:solidFill>
                <a:srgbClr val="404040"/>
              </a:solidFill>
              <a:latin typeface="Calisto MT"/>
            </a:endParaRPr>
          </a:p>
        </p:txBody>
      </p:sp>
      <p:sp>
        <p:nvSpPr>
          <p:cNvPr id="804" name=""/>
          <p:cNvSpPr txBox="1"/>
          <p:nvPr/>
        </p:nvSpPr>
        <p:spPr>
          <a:xfrm>
            <a:off x="457200" y="1752480"/>
            <a:ext cx="822960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irect-propagation worms can jump from one computer to another without human intervention on the receiving computer</a:t>
            </a:r>
            <a:endParaRPr b="0" lang="en-US" sz="2400" spc="-1" strike="noStrike">
              <a:solidFill>
                <a:srgbClr val="404040"/>
              </a:solidFill>
              <a:latin typeface="Calisto MT"/>
            </a:endParaRPr>
          </a:p>
          <a:p>
            <a:pPr lvl="1" marL="579600" indent="-228600">
              <a:spcBef>
                <a:spcPts val="1800"/>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uter must have a vulnerability for direct propagation to work (STUXNET)</a:t>
            </a:r>
            <a:endParaRPr b="0" lang="en-US" sz="2200" spc="-1" strike="noStrike">
              <a:solidFill>
                <a:srgbClr val="404040"/>
              </a:solidFill>
              <a:latin typeface="Calisto MT"/>
            </a:endParaRPr>
          </a:p>
          <a:p>
            <a:pPr lvl="1" marL="579600" indent="-228600">
              <a:spcBef>
                <a:spcPts val="1800"/>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rect-propagation worms can spread extremely rapidly because they do not have to wait for users to ac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0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0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FED1-5A98-4FCB-B2B1-54D7210DC09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4: Classic Malware: Viruses and Worms</a:t>
            </a:r>
            <a:endParaRPr b="0" lang="en-US" sz="4300" spc="-1" strike="noStrike">
              <a:solidFill>
                <a:srgbClr val="404040"/>
              </a:solidFill>
              <a:latin typeface="Calisto MT"/>
            </a:endParaRPr>
          </a:p>
        </p:txBody>
      </p:sp>
      <p:sp>
        <p:nvSpPr>
          <p:cNvPr id="808" name=""/>
          <p:cNvSpPr txBox="1"/>
          <p:nvPr/>
        </p:nvSpPr>
        <p:spPr>
          <a:xfrm>
            <a:off x="457200" y="1676160"/>
            <a:ext cx="8229600" cy="433044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Blended Threat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Hybrid Virus/Worm</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Payloads</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ieces of code that do damage</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mplemented by viruses and worms after propagation</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licious payloads are designed to do heavy damage</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0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BB6F-34EB-4E52-BC8A-95DB1ECD235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Current Threat Environment</a:t>
            </a:r>
            <a:endParaRPr b="0" lang="en-US" sz="4300" spc="-1" strike="noStrike">
              <a:solidFill>
                <a:srgbClr val="404040"/>
              </a:solidFill>
              <a:latin typeface="Calisto MT"/>
            </a:endParaRPr>
          </a:p>
        </p:txBody>
      </p:sp>
      <p:sp>
        <p:nvSpPr>
          <p:cNvPr id="81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M86 Security</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Symantec.Cloud Messagelab</a:t>
            </a:r>
            <a:endParaRPr b="0" lang="en-US" sz="2400" spc="-1" strike="noStrike">
              <a:solidFill>
                <a:srgbClr val="404040"/>
              </a:solidFill>
              <a:latin typeface="Calisto MT"/>
            </a:endParaRPr>
          </a:p>
        </p:txBody>
      </p:sp>
      <p:sp>
        <p:nvSpPr>
          <p:cNvPr id="813"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4"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AE06-6901-46FC-8A5D-814FCB04E07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5: Trojan Horses and Rootkits</a:t>
            </a:r>
            <a:endParaRPr b="0" lang="en-US" sz="4300" spc="-1" strike="noStrike">
              <a:solidFill>
                <a:srgbClr val="404040"/>
              </a:solidFill>
              <a:latin typeface="Calisto MT"/>
            </a:endParaRPr>
          </a:p>
        </p:txBody>
      </p:sp>
      <p:sp>
        <p:nvSpPr>
          <p:cNvPr id="816"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Nonmobile Malwar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ust be placed on the user’s computer through one of a growing number of attack techniqu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laced on computer by hacker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laced on computer by virus or worm as part of its payload</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victim can be enticed to download the program from a website or FTP sit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obile code executed on a webpage can download the nonmobile malware</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1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1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FA24-8BE4-48FD-AB62-27A40899DB1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5: Trojan Horses and Rootkits</a:t>
            </a:r>
            <a:endParaRPr b="0" lang="en-US" sz="4300" spc="-1" strike="noStrike">
              <a:solidFill>
                <a:srgbClr val="404040"/>
              </a:solidFill>
              <a:latin typeface="Calisto MT"/>
            </a:endParaRPr>
          </a:p>
        </p:txBody>
      </p:sp>
      <p:sp>
        <p:nvSpPr>
          <p:cNvPr id="820" name=""/>
          <p:cNvSpPr txBox="1"/>
          <p:nvPr/>
        </p:nvSpPr>
        <p:spPr>
          <a:xfrm>
            <a:off x="457200" y="1904760"/>
            <a:ext cx="8229600" cy="42670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 program that replaces an existing system file, taking its name</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emote Access Trojans (RAT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Remotely control the victim’s PC</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ownloader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mall Trojan horses that download larger Trojan horses after the downloader is installed</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2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2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AD39-BB64-448C-A339-6FB37383339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5: Trojan Horses and Rootkits</a:t>
            </a:r>
            <a:endParaRPr b="0" lang="en-US" sz="4300" spc="-1" strike="noStrike">
              <a:solidFill>
                <a:srgbClr val="404040"/>
              </a:solidFill>
              <a:latin typeface="Calisto MT"/>
            </a:endParaRPr>
          </a:p>
        </p:txBody>
      </p:sp>
      <p:sp>
        <p:nvSpPr>
          <p:cNvPr id="824" name=""/>
          <p:cNvSpPr txBox="1"/>
          <p:nvPr/>
        </p:nvSpPr>
        <p:spPr>
          <a:xfrm>
            <a:off x="457200" y="1828800"/>
            <a:ext cx="8229600" cy="45720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pyware</a:t>
            </a:r>
            <a:endParaRPr b="0" lang="en-US" sz="24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ograms that gather information about you and make it available to the adversary</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okies that store too much sensitive personal informa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Keystroke logger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assword-stealing spywar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ata mining spyware</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2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2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82F9-CC14-4212-94FC-8EC1AD25367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Defenders Dilemma</a:t>
            </a:r>
            <a:endParaRPr b="0" lang="en-US" sz="4800" spc="-1" strike="noStrike">
              <a:solidFill>
                <a:srgbClr val="404040"/>
              </a:solidFill>
              <a:latin typeface="Calisto MT"/>
            </a:endParaRPr>
          </a:p>
        </p:txBody>
      </p:sp>
      <p:sp>
        <p:nvSpPr>
          <p:cNvPr id="717"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efense is always harder because you have to be perfect, where attackers only have to find one flaw. </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18"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19"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6AB8-2807-42AE-8B5F-B717830E719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5: Trojan Horses and Rootkits</a:t>
            </a:r>
            <a:endParaRPr b="0" lang="en-US" sz="4300" spc="-1" strike="noStrike">
              <a:solidFill>
                <a:srgbClr val="404040"/>
              </a:solidFill>
              <a:latin typeface="Calisto MT"/>
            </a:endParaRPr>
          </a:p>
        </p:txBody>
      </p:sp>
      <p:sp>
        <p:nvSpPr>
          <p:cNvPr id="82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ojan Hor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Rootkits</a:t>
            </a:r>
            <a:endParaRPr b="0" lang="en-US" sz="24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ake control of the super user account (root, administrator, etc.)</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n hide themselves from file system detection</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n hide malware from detection</a:t>
            </a:r>
            <a:endParaRPr b="0" lang="en-US" sz="2000" spc="-1" strike="noStrike">
              <a:solidFill>
                <a:srgbClr val="404040"/>
              </a:solidFill>
              <a:latin typeface="Calisto MT"/>
            </a:endParaRPr>
          </a:p>
          <a:p>
            <a:pPr lvl="2" marL="808200" indent="-228600">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xtremely difficult to detect (ordinary antivirus programs find few rootkits)</a:t>
            </a:r>
            <a:endParaRPr b="0" lang="en-US" sz="2000" spc="-1" strike="noStrike">
              <a:solidFill>
                <a:srgbClr val="404040"/>
              </a:solidFill>
              <a:latin typeface="Calisto MT"/>
            </a:endParaRPr>
          </a:p>
        </p:txBody>
      </p:sp>
      <p:sp>
        <p:nvSpPr>
          <p:cNvPr id="82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EDB8-7F62-43F0-A74F-9067981F44B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6: Other Malware Attacks</a:t>
            </a:r>
            <a:endParaRPr b="0" lang="en-US" sz="4300" spc="-1" strike="noStrike">
              <a:solidFill>
                <a:srgbClr val="404040"/>
              </a:solidFill>
              <a:latin typeface="Calisto MT"/>
            </a:endParaRPr>
          </a:p>
        </p:txBody>
      </p:sp>
      <p:sp>
        <p:nvSpPr>
          <p:cNvPr id="832"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Mobile Cod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ecutable code on a webpag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de is executed automatically when the webpage is downloaded</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Javascript, Microsoft Active-X controls,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 do damage if computer has vulnerabi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3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F10B-718B-444A-B5EE-4A500CC121B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6: Other Malware Attacks</a:t>
            </a:r>
            <a:endParaRPr b="0" lang="en-US" sz="4300" spc="-1" strike="noStrike">
              <a:solidFill>
                <a:srgbClr val="404040"/>
              </a:solidFill>
              <a:latin typeface="Calisto MT"/>
            </a:endParaRPr>
          </a:p>
        </p:txBody>
      </p:sp>
      <p:sp>
        <p:nvSpPr>
          <p:cNvPr id="836"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ocial Engineering in Malware</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ocial engineering is attempting to trick users into doing something that goes against security policie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everal types of malware use social engineering</a:t>
            </a:r>
            <a:endParaRPr b="0" lang="en-US" sz="22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pam</a:t>
            </a:r>
            <a:endParaRPr b="0" lang="en-US" sz="20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hishing</a:t>
            </a:r>
            <a:endParaRPr b="0" lang="en-US" sz="2000" spc="-1" strike="noStrike">
              <a:solidFill>
                <a:srgbClr val="404040"/>
              </a:solidFill>
              <a:latin typeface="Calisto MT"/>
            </a:endParaRPr>
          </a:p>
          <a:p>
            <a:pPr lvl="3" marL="1036800" indent="-228600">
              <a:lnSpc>
                <a:spcPct val="90000"/>
              </a:lnSpc>
              <a:spcBef>
                <a:spcPts val="1199"/>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Fool victim to giving out sensitive information</a:t>
            </a:r>
            <a:endParaRPr b="0" lang="en-US" sz="18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pear phishing (aimed at individuals or specific groups)</a:t>
            </a:r>
            <a:endParaRPr b="0" lang="en-US" sz="2000" spc="-1" strike="noStrike">
              <a:solidFill>
                <a:srgbClr val="404040"/>
              </a:solidFill>
              <a:latin typeface="Calisto MT"/>
            </a:endParaRPr>
          </a:p>
          <a:p>
            <a:pPr lvl="3" marL="1036800" indent="-228600">
              <a:lnSpc>
                <a:spcPct val="90000"/>
              </a:lnSpc>
              <a:spcBef>
                <a:spcPts val="1199"/>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HBGary</a:t>
            </a:r>
            <a:endParaRPr b="0" lang="en-US" sz="1800" spc="-1" strike="noStrike">
              <a:solidFill>
                <a:srgbClr val="404040"/>
              </a:solidFill>
              <a:latin typeface="Calisto MT"/>
            </a:endParaRPr>
          </a:p>
          <a:p>
            <a:pPr lvl="2" marL="808200" indent="-228600">
              <a:lnSpc>
                <a:spcPct val="90000"/>
              </a:lnSpc>
              <a:spcBef>
                <a:spcPts val="11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oaxes</a:t>
            </a:r>
            <a:endParaRPr b="0" lang="en-US" sz="20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37"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38"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3ADC-4C20-4ADD-8701-416219CACF5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40"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raditional Hacke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otivated by thrill, validation of skills, sense of powe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otivated to increase reputation among other hack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do damage as a byproduc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engage in petty crim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4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4DC7-8D4E-4E81-95D7-C1E64756752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44"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Anatomy of a H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econnaissance probes (Figure 1-8)</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P address scans to identify possible victim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ort scans to learn which services are open on each potential victim host</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4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A935-664A-4698-8B8E-BAD49611807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8: Probe and Exploit Attack Packets</a:t>
            </a:r>
            <a:endParaRPr b="0" lang="en-US" sz="4300" spc="-1" strike="noStrike">
              <a:solidFill>
                <a:srgbClr val="404040"/>
              </a:solidFill>
              <a:latin typeface="Calisto MT"/>
            </a:endParaRPr>
          </a:p>
        </p:txBody>
      </p:sp>
      <p:sp>
        <p:nvSpPr>
          <p:cNvPr id="84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4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09D1-45E7-4F1B-8F51-BA75EA79FC01}"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50" name="Picture 11" descr="S2C01F05 Probes and Exploit"/>
          <p:cNvPicPr/>
          <p:nvPr/>
        </p:nvPicPr>
        <p:blipFill>
          <a:blip r:embed="rId2"/>
          <a:stretch/>
        </p:blipFill>
        <p:spPr>
          <a:xfrm>
            <a:off x="2971800" y="1752480"/>
            <a:ext cx="5832360" cy="4206960"/>
          </a:xfrm>
          <a:prstGeom prst="rect">
            <a:avLst/>
          </a:prstGeom>
          <a:ln w="0">
            <a:noFill/>
          </a:ln>
        </p:spPr>
      </p:pic>
      <p:sp>
        <p:nvSpPr>
          <p:cNvPr id="851" name="TextBox 6"/>
          <p:cNvSpPr/>
          <p:nvPr/>
        </p:nvSpPr>
        <p:spPr>
          <a:xfrm>
            <a:off x="545400" y="2057400"/>
            <a:ext cx="2388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Pr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Sniffer Search</a:t>
            </a:r>
            <a:endParaRPr b="0" lang="en-US" sz="1800" spc="-1" strike="noStrike">
              <a:solidFill>
                <a:srgbClr val="000000"/>
              </a:solidFill>
              <a:latin typeface="Arial"/>
            </a:endParaRPr>
          </a:p>
        </p:txBody>
      </p:sp>
      <p:sp>
        <p:nvSpPr>
          <p:cNvPr id="852" name="TextBox 7"/>
          <p:cNvSpPr/>
          <p:nvPr/>
        </p:nvSpPr>
        <p:spPr>
          <a:xfrm>
            <a:off x="685800" y="3429000"/>
            <a:ext cx="2057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ose SYN TCP messages, or the ICMP echo and echo replies within IP Pack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54" name=""/>
          <p:cNvSpPr txBox="1"/>
          <p:nvPr/>
        </p:nvSpPr>
        <p:spPr>
          <a:xfrm>
            <a:off x="457200" y="1905120"/>
            <a:ext cx="8229600" cy="41018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Anatomy of a Hack</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exploit</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specific attack method that the attacker uses to break into the computer is called the attacker’s exploi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act of implementing the exploit is called exploiting the hos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Exploit Database (yes it can be this easy!)</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5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5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D7E4-9371-440A-A0D9-7447E17DD0C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9: Source IP Address Spoofing</a:t>
            </a:r>
            <a:endParaRPr b="0" lang="en-US" sz="4300" spc="-1" strike="noStrike">
              <a:solidFill>
                <a:srgbClr val="404040"/>
              </a:solidFill>
              <a:latin typeface="Calisto MT"/>
            </a:endParaRPr>
          </a:p>
        </p:txBody>
      </p:sp>
      <p:sp>
        <p:nvSpPr>
          <p:cNvPr id="85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5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6E51-E464-43F8-879A-38C4240F0EE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60" name="Picture 12" descr="S2C01F06 Spoofing"/>
          <p:cNvPicPr/>
          <p:nvPr/>
        </p:nvPicPr>
        <p:blipFill>
          <a:blip r:embed="rId2"/>
          <a:stretch/>
        </p:blipFill>
        <p:spPr>
          <a:xfrm>
            <a:off x="152280" y="1752480"/>
            <a:ext cx="891864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62" name=""/>
          <p:cNvSpPr txBox="1"/>
          <p:nvPr/>
        </p:nvSpPr>
        <p:spPr>
          <a:xfrm>
            <a:off x="457200" y="1752120"/>
            <a:ext cx="8229600" cy="441972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hain of attack computers (Spoofing Work-around)</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attacker attacks through a chain of victim computers</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obe and exploit packets contain the source IP address of the last computer in the chain</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final attack computer receives replies and passes them back to the attack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the victim can trace the attack back to the final attack comput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ut the attack usually can only be traced back a few computers more</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6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6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CD1C-6FB5-4871-BF80-A74FB5DA477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0: Chain of Attack Computers</a:t>
            </a:r>
            <a:endParaRPr b="0" lang="en-US" sz="4300" spc="-1" strike="noStrike">
              <a:solidFill>
                <a:srgbClr val="404040"/>
              </a:solidFill>
              <a:latin typeface="Calisto MT"/>
            </a:endParaRPr>
          </a:p>
        </p:txBody>
      </p:sp>
      <p:sp>
        <p:nvSpPr>
          <p:cNvPr id="86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6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C928-1BCE-4AAF-8CB4-58E7744D0DF5}"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68" name="Picture 13" descr="S2C01F07 Chain of Attack Hosts"/>
          <p:cNvPicPr/>
          <p:nvPr/>
        </p:nvPicPr>
        <p:blipFill>
          <a:blip r:embed="rId2"/>
          <a:stretch/>
        </p:blipFill>
        <p:spPr>
          <a:xfrm>
            <a:off x="228600" y="1066680"/>
            <a:ext cx="8610480" cy="4191120"/>
          </a:xfrm>
          <a:prstGeom prst="rect">
            <a:avLst/>
          </a:prstGeom>
          <a:ln w="0">
            <a:noFill/>
          </a:ln>
        </p:spPr>
      </p:pic>
      <p:sp>
        <p:nvSpPr>
          <p:cNvPr id="869" name="Rectangle 5"/>
          <p:cNvSpPr/>
          <p:nvPr/>
        </p:nvSpPr>
        <p:spPr>
          <a:xfrm>
            <a:off x="914400" y="3886200"/>
            <a:ext cx="3962520" cy="2743200"/>
          </a:xfrm>
          <a:prstGeom prst="rect">
            <a:avLst/>
          </a:prstGeom>
          <a:gradFill rotWithShape="0">
            <a:gsLst>
              <a:gs pos="0">
                <a:srgbClr val="d6f3ff"/>
              </a:gs>
              <a:gs pos="100000">
                <a:srgbClr val="95d4ee"/>
              </a:gs>
            </a:gsLst>
            <a:lin ang="5400000"/>
          </a:gradFill>
          <a:ln w="9360">
            <a:solidFill>
              <a:srgbClr val="4b5a60"/>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probes whose replies mu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 received, attacker sen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bes through a chain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tack computer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Victim only knows the ident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f the last compromised h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3.125.33.101)</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t that of the attack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 Basic Security Terminology</a:t>
            </a:r>
            <a:endParaRPr b="0" lang="en-US" sz="4300" spc="-1" strike="noStrike">
              <a:solidFill>
                <a:srgbClr val="404040"/>
              </a:solidFill>
              <a:latin typeface="Calisto MT"/>
            </a:endParaRPr>
          </a:p>
        </p:txBody>
      </p:sp>
      <p:sp>
        <p:nvSpPr>
          <p:cNvPr id="721"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Threat Environmen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e threat environment consists of the types of attackers and attacks that companies fac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ternet connects millions of computer networks together.</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 security of what is stored on anyone computer on the millions of networks is contingent on the security of every other connected computer.</a:t>
            </a:r>
            <a:endParaRPr b="0" lang="en-US" sz="2000" spc="-1" strike="noStrike">
              <a:solidFill>
                <a:srgbClr val="404040"/>
              </a:solidFill>
              <a:latin typeface="Calisto MT"/>
            </a:endParaRPr>
          </a:p>
        </p:txBody>
      </p:sp>
      <p:sp>
        <p:nvSpPr>
          <p:cNvPr id="72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2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36F5-D2D9-4064-889A-439F79F5E52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Hacks against Batteries???</a:t>
            </a:r>
            <a:endParaRPr b="0" lang="en-US" sz="4800" spc="-1" strike="noStrike">
              <a:solidFill>
                <a:srgbClr val="404040"/>
              </a:solidFill>
              <a:latin typeface="Calisto MT"/>
            </a:endParaRPr>
          </a:p>
        </p:txBody>
      </p:sp>
      <p:sp>
        <p:nvSpPr>
          <p:cNvPr id="871" name=""/>
          <p:cNvSpPr txBox="1"/>
          <p:nvPr/>
        </p:nvSpPr>
        <p:spPr>
          <a:xfrm>
            <a:off x="900000" y="2133360"/>
            <a:ext cx="7345440" cy="393228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harlie Miller</a:t>
            </a:r>
            <a:endParaRPr b="0" lang="en-US" sz="22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pple Battery Hack</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make modifications to the firmware that runs on the main chip on the smart battery.</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You can make it do whatever you want because Apple used default passwords on the chips (made by Texas Instruments).</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Code you put there would survive reinstallation of the OS, new hard drives, new mother- boards, and so on.</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However, the code cannot directly affect the OS or hard drive, so in order for it to be malware, it would have to attack the OS through some kind of vulnerability in the way the OS handles messages from the battery. </a:t>
            </a:r>
            <a:endParaRPr b="0" lang="en-US" sz="19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sto MT"/>
            </a:endParaRPr>
          </a:p>
        </p:txBody>
      </p:sp>
      <p:sp>
        <p:nvSpPr>
          <p:cNvPr id="872"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73"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4497-BF42-4E86-AFF9-DE0F2C890FC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7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ocial Engineering</a:t>
            </a: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ocial engineering is often used in hacking</a:t>
            </a:r>
            <a:endParaRPr b="0" lang="en-US" sz="22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all and ask for passwords and other confidential information</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mail attack messages with attractive subjects</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iggyback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houlder surf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etexting</a:t>
            </a:r>
            <a:endParaRPr b="0" lang="en-US" sz="2000" spc="-1" strike="noStrike">
              <a:solidFill>
                <a:srgbClr val="404040"/>
              </a:solidFill>
              <a:latin typeface="Calisto MT"/>
            </a:endParaRPr>
          </a:p>
          <a:p>
            <a:pPr lvl="2" marL="808200" indent="-2286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tc.</a:t>
            </a:r>
            <a:endParaRPr b="0" lang="en-US" sz="20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ften successful because it focuses on human weaknesses instead of technological weaknesses</a:t>
            </a:r>
            <a:endParaRPr b="0" lang="en-US" sz="2200" spc="-1" strike="noStrike">
              <a:solidFill>
                <a:srgbClr val="404040"/>
              </a:solidFill>
              <a:latin typeface="Calisto MT"/>
            </a:endParaRPr>
          </a:p>
          <a:p>
            <a:pPr marL="343080" indent="-343080">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lnSpc>
                <a:spcPct val="9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7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7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2E43-CB8B-4162-A820-E628ABC17E7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79" name=""/>
          <p:cNvSpPr txBox="1"/>
          <p:nvPr/>
        </p:nvSpPr>
        <p:spPr>
          <a:xfrm>
            <a:off x="457200" y="1722600"/>
            <a:ext cx="8229600" cy="452592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enial-of-Service (DoS) Attack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ke a server or entire network unavailable to legitimate user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ypically send a flood of attack messages to the victim</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Distributed DoS (DDoS) Attacks (Figure 1-11)</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Bots flood the victim with attack packe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ttacker controls the bot</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YN Messag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8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79D6-8D8C-4364-97F3-780D2557274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44440"/>
            <a:ext cx="815328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1: Distributed Denial-of-Service (DDoS) Flooding Attack</a:t>
            </a:r>
            <a:endParaRPr b="0" lang="en-US" sz="4300" spc="-1" strike="noStrike">
              <a:solidFill>
                <a:srgbClr val="404040"/>
              </a:solidFill>
              <a:latin typeface="Calisto MT"/>
            </a:endParaRPr>
          </a:p>
        </p:txBody>
      </p:sp>
      <p:sp>
        <p:nvSpPr>
          <p:cNvPr id="883"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4"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C834-E75C-4D30-83E1-DEA860D9B6A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85" name="Picture 14" descr="S2C01F12 DDOS Attack"/>
          <p:cNvPicPr/>
          <p:nvPr/>
        </p:nvPicPr>
        <p:blipFill>
          <a:blip r:embed="rId2"/>
          <a:stretch/>
        </p:blipFill>
        <p:spPr>
          <a:xfrm>
            <a:off x="152280" y="1600200"/>
            <a:ext cx="8763120" cy="4290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87" name=""/>
          <p:cNvSpPr txBox="1"/>
          <p:nvPr/>
        </p:nvSpPr>
        <p:spPr>
          <a:xfrm>
            <a:off x="457200" y="1828800"/>
            <a:ext cx="8229600" cy="41781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Bot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pdatable attack programs (Figure 1-12)</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master can update the software to change the type of attack the bot can do</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y sell or lease the botnet to other criminal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master can update the bot to fix bug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otnet Search</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8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8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18B1-FE8C-49FC-823E-4A4E35765A3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80880" y="244080"/>
            <a:ext cx="78645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2: Fixing and Updating Bots</a:t>
            </a:r>
            <a:endParaRPr b="0" lang="en-US" sz="4300" spc="-1" strike="noStrike">
              <a:solidFill>
                <a:srgbClr val="404040"/>
              </a:solidFill>
              <a:latin typeface="Calisto MT"/>
            </a:endParaRPr>
          </a:p>
        </p:txBody>
      </p:sp>
      <p:sp>
        <p:nvSpPr>
          <p:cNvPr id="891"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92"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4870-3540-48F5-9F00-57676BD147B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893" name="Picture 15" descr="S2C01F13 Botnet"/>
          <p:cNvPicPr/>
          <p:nvPr/>
        </p:nvPicPr>
        <p:blipFill>
          <a:blip r:embed="rId2"/>
          <a:stretch/>
        </p:blipFill>
        <p:spPr>
          <a:xfrm>
            <a:off x="76320" y="1676520"/>
            <a:ext cx="8839080" cy="426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95" name=""/>
          <p:cNvSpPr txBox="1"/>
          <p:nvPr/>
        </p:nvSpPr>
        <p:spPr>
          <a:xfrm>
            <a:off x="457200" y="1752480"/>
            <a:ext cx="8229600" cy="457200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kill Level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pert attackers are characterized by strong technical skills and dogged persistenc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xpert attackers create hacker scripts to automate some of their work</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cripts are also available for writing viruses and other malicious softwar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89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89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4A85-BF56-462D-ADC9-DCB6136DFE8F}"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7: Traditional External Attackers: Hackers</a:t>
            </a:r>
            <a:endParaRPr b="0" lang="en-US" sz="4300" spc="-1" strike="noStrike">
              <a:solidFill>
                <a:srgbClr val="404040"/>
              </a:solidFill>
              <a:latin typeface="Calisto MT"/>
            </a:endParaRPr>
          </a:p>
        </p:txBody>
      </p:sp>
      <p:sp>
        <p:nvSpPr>
          <p:cNvPr id="899" name=""/>
          <p:cNvSpPr txBox="1"/>
          <p:nvPr/>
        </p:nvSpPr>
        <p:spPr>
          <a:xfrm>
            <a:off x="457200" y="1828800"/>
            <a:ext cx="8229600" cy="4495680"/>
          </a:xfrm>
          <a:prstGeom prst="rect">
            <a:avLst/>
          </a:prstGeom>
          <a:noFill/>
          <a:ln w="0">
            <a:noFill/>
          </a:ln>
        </p:spPr>
        <p:txBody>
          <a:bodyPr anchor="t">
            <a:normAutofit/>
          </a:bodyPr>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Calisto MT"/>
              </a:rPr>
              <a:t>Skill Levels</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use these scripts to make attack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have low technical skill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Script kiddies are dangerous because of their large numbers</a:t>
            </a:r>
            <a:endParaRPr b="0" lang="en-US" sz="15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listo MT"/>
              </a:rPr>
              <a:t>Metasploit</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a:t>
            </a:r>
            <a:r>
              <a:rPr b="0" lang="en-US" sz="1500" spc="-1" strike="noStrike">
                <a:solidFill>
                  <a:srgbClr val="404040"/>
                </a:solidFill>
                <a:latin typeface="Calisto MT"/>
              </a:rPr>
              <a:t>The Metasploit® Framework is a free, open source penetration testing solution developed by the open source community and Rapid7. It is the de-facto standard for penetration testing with more than one million unique downloads per year and the world’s largest, public database of quality assured exploits.”</a:t>
            </a: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listo MT"/>
              </a:rPr>
              <a:t>Spyeye</a:t>
            </a: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sto MT"/>
              </a:rPr>
              <a:t>“</a:t>
            </a:r>
            <a:r>
              <a:rPr b="0" lang="en-US" sz="1500" spc="-1" strike="noStrike">
                <a:solidFill>
                  <a:srgbClr val="404040"/>
                </a:solidFill>
                <a:latin typeface="Calisto MT"/>
              </a:rPr>
              <a:t>It's been about a week since the keys to accessing SpyEye were publicly disclosed. So far 14 cyber-rings have taken advantage, using SpyEye to send commands to tens of thousands of infected PCs in the U.S. and Europe, according to Damballa research findings.In the first six months of the year, SpyEye was being used by 29 elite gangs that collectively commanded at least 2.2 million infected PCs worldwide. SpyEye normally sells for up to $10,000. But, as of last week, the latest, most powerful version of SpyEye could be acquired for just $95, Bodmer says.”</a:t>
            </a:r>
            <a:endParaRPr b="0" lang="en-US" sz="1500" spc="-1" strike="noStrike">
              <a:solidFill>
                <a:srgbClr val="404040"/>
              </a:solidFill>
              <a:latin typeface="Calisto MT"/>
            </a:endParaRPr>
          </a:p>
          <a:p>
            <a:pPr marL="343080" indent="-343080">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sto MT"/>
            </a:endParaRPr>
          </a:p>
          <a:p>
            <a:pPr lvl="1" marL="579600" indent="-228600">
              <a:lnSpc>
                <a:spcPct val="80000"/>
              </a:lnSpc>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sto MT"/>
            </a:endParaRPr>
          </a:p>
        </p:txBody>
      </p:sp>
      <p:sp>
        <p:nvSpPr>
          <p:cNvPr id="90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EC48-D0EC-43C3-8ED0-075A5B3A3BA0}"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03"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Criminal Er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day, </a:t>
            </a:r>
            <a:r>
              <a:rPr b="0" i="1" lang="en-US" sz="2200" spc="-1" strike="noStrike">
                <a:solidFill>
                  <a:srgbClr val="404040"/>
                </a:solidFill>
                <a:latin typeface="Calisto MT"/>
              </a:rPr>
              <a:t>most</a:t>
            </a:r>
            <a:r>
              <a:rPr b="0" lang="en-US" sz="2200" spc="-1" strike="noStrike">
                <a:solidFill>
                  <a:srgbClr val="404040"/>
                </a:solidFill>
                <a:latin typeface="Calisto MT"/>
              </a:rPr>
              <a:t> attackers are career criminals with traditional criminal motive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dapt traditional criminal attack strategies to IT attacks (fraud, etc.)</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0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672E-99CA-4DA4-A305-F455BE9DDC19}"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07"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The Criminal Er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ny cybercrime gangs are international</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kes prosecution difficult</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upe citizens of a country into being transshippers of fraudulently purchased goods to the attacker in another country</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ybercriminals use black market forum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redit card numbers and identity information</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Vulnerabilitie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xploit software (often with update contracts)</a:t>
            </a:r>
            <a:endParaRPr b="0" lang="en-US" sz="2000" spc="-1" strike="noStrike">
              <a:solidFill>
                <a:srgbClr val="404040"/>
              </a:solidFill>
              <a:latin typeface="Calisto MT"/>
            </a:endParaRPr>
          </a:p>
        </p:txBody>
      </p:sp>
      <p:sp>
        <p:nvSpPr>
          <p:cNvPr id="90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0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7342-9F3D-440E-B6C0-1B9C1076FEE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 Basic Security Terminology</a:t>
            </a:r>
            <a:endParaRPr b="0" lang="en-US" sz="4300" spc="-1" strike="noStrike">
              <a:solidFill>
                <a:srgbClr val="404040"/>
              </a:solidFill>
              <a:latin typeface="Calisto MT"/>
            </a:endParaRPr>
          </a:p>
        </p:txBody>
      </p:sp>
      <p:sp>
        <p:nvSpPr>
          <p:cNvPr id="725" name=""/>
          <p:cNvSpPr txBox="1"/>
          <p:nvPr/>
        </p:nvSpPr>
        <p:spPr>
          <a:xfrm>
            <a:off x="457200" y="1752480"/>
            <a:ext cx="3124080" cy="42544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ecurity Goals</a:t>
            </a: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IA</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Calisto MT"/>
              </a:rPr>
              <a:t>Confidentiality, Availability, Integrity</a:t>
            </a:r>
            <a:endParaRPr b="0" lang="en-US" sz="2200" spc="-1" strike="noStrike">
              <a:solidFill>
                <a:srgbClr val="404040"/>
              </a:solidFill>
              <a:latin typeface="Calisto MT"/>
            </a:endParaRPr>
          </a:p>
        </p:txBody>
      </p:sp>
      <p:sp>
        <p:nvSpPr>
          <p:cNvPr id="72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2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C143-EAE7-4928-92A0-ED99DB1E830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728" name="Diagram 6" descr=""/>
          <p:cNvPicPr/>
          <p:nvPr/>
        </p:nvPicPr>
        <p:blipFill>
          <a:blip r:embed="rId2"/>
          <a:stretch/>
        </p:blipFill>
        <p:spPr>
          <a:xfrm>
            <a:off x="3578400" y="1809720"/>
            <a:ext cx="5187600" cy="3792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11"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Fraud</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 fraud, the attacker deceives the victim into doing something against the victim’s financial self-interes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riminals are learning to conduct traditional frauds and new frauds over networ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new types of fraud, such as click fraud</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1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BE59-D47D-4772-83E6-49184EB53EA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15"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Financial and Intellectual Property Thef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teal money or intellectual property they can sell to other criminals or to competitor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Extortion</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hreaten a DoS attack or threaten to release stolen information unless the victim pays the attacke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1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1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EF57-1BCA-4C7C-8B63-052AD06AD883}"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44440"/>
            <a:ext cx="8077320" cy="1339920"/>
          </a:xfrm>
          <a:prstGeom prst="rect">
            <a:avLst/>
          </a:prstGeom>
          <a:noFill/>
          <a:ln w="0">
            <a:noFill/>
          </a:ln>
        </p:spPr>
        <p:txBody>
          <a:bodyPr anchor="ctr">
            <a:noAutofit/>
          </a:bodyPr>
          <a:p>
            <a:pPr marL="24161760" indent="0" algn="ctr">
              <a:buNone/>
              <a:tabLst>
                <a:tab algn="l" pos="0"/>
              </a:tabLst>
            </a:pPr>
            <a:r>
              <a:rPr b="0" lang="en-US" sz="2500" spc="-1" strike="noStrike">
                <a:solidFill>
                  <a:srgbClr val="000000"/>
                </a:solidFill>
                <a:latin typeface="Calisto MT"/>
              </a:rPr>
              <a:t>Fata System Error, The Hunt for the New Crime Lords bringing down the Internet by Joseph Menn</a:t>
            </a:r>
            <a:br>
              <a:rPr sz="2500"/>
            </a:br>
            <a:endParaRPr b="0" lang="en-US" sz="2500" spc="-1" strike="noStrike">
              <a:solidFill>
                <a:srgbClr val="404040"/>
              </a:solidFill>
              <a:latin typeface="Calisto MT"/>
            </a:endParaRPr>
          </a:p>
        </p:txBody>
      </p:sp>
      <p:sp>
        <p:nvSpPr>
          <p:cNvPr id="919"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Don Best Sports, Las Vegas Oddsmake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
            </a:r>
            <a:r>
              <a:rPr b="0" lang="en-US" sz="2200" spc="-1" strike="noStrike">
                <a:solidFill>
                  <a:srgbClr val="404040"/>
                </a:solidFill>
                <a:latin typeface="Calisto MT"/>
              </a:rPr>
              <a:t>A hacker had taken control of the company’s database of customers – 1,647 names of hard-core gamblers and betting companies, along with their credit card numbers – and encrypted it.  A follow-up email promised that Don Best could have its system back for $200,000”</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20"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1"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1E7C-63A0-47DA-87B7-FB7496A1EA1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23"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Stealing Sensitive Data about Customers and Employe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rding (credit card number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Bank account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Online stock account thef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dentity theft</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Steal enough identity information to represent the victim in large transactions, such as buying a car or even a house</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2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3870-8792-4124-B52E-15175E80B4CB}"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3: The Criminal Era</a:t>
            </a:r>
            <a:endParaRPr b="0" lang="en-US" sz="4800" spc="-1" strike="noStrike">
              <a:solidFill>
                <a:srgbClr val="404040"/>
              </a:solidFill>
              <a:latin typeface="Calisto MT"/>
            </a:endParaRPr>
          </a:p>
        </p:txBody>
      </p:sp>
      <p:sp>
        <p:nvSpPr>
          <p:cNvPr id="927" name=""/>
          <p:cNvSpPr txBox="1"/>
          <p:nvPr/>
        </p:nvSpPr>
        <p:spPr>
          <a:xfrm>
            <a:off x="457200" y="1980720"/>
            <a:ext cx="8229600" cy="40258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rporate Identity Theft</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teal the identity of an entire corpo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ccept credit cards on behalf of the corpor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retend to be the corporation in large transaction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an even take ownership of the corporation</a:t>
            </a:r>
            <a:endParaRPr b="0" lang="en-US" sz="2200" spc="-1" strike="noStrike">
              <a:solidFill>
                <a:srgbClr val="404040"/>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92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2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15BB-BD72-4358-BCED-7329763E1348}"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1"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mercial Espion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on confidentia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ublic information gathering</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mpany website and public documen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Facebook pages of employees, etc.</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 espionage</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May only be litigated if a company has provided reasonable protection for those secret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Reasonableness reflects the sensitivity of the secret and industry security practice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3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4CB7-0D71-462C-8397-15F6079206F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5"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mercial Espionage</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rade secret theft approach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Theft through interception, hacking, and other traditional cybercrime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Bribe an employee</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Hire your ex-employee and soliciting or accept trade secret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National intelligence agencies engage in commercial espionage</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36"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37"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0818-5063-4794-9122-78F688C36D0D}"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1-14: Competitor Threats</a:t>
            </a:r>
            <a:endParaRPr b="0" lang="en-US" sz="4800" spc="-1" strike="noStrike">
              <a:solidFill>
                <a:srgbClr val="404040"/>
              </a:solidFill>
              <a:latin typeface="Calisto MT"/>
            </a:endParaRPr>
          </a:p>
        </p:txBody>
      </p:sp>
      <p:sp>
        <p:nvSpPr>
          <p:cNvPr id="939" name=""/>
          <p:cNvSpPr txBox="1"/>
          <p:nvPr/>
        </p:nvSpPr>
        <p:spPr>
          <a:xfrm>
            <a:off x="457200" y="1599840"/>
            <a:ext cx="8229600" cy="440676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Denial-of-Service Attacks by Competitor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on availabilit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Rare but can be devastating</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0"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1"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254C-F246-4871-AD6A-ABC97A128CC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5: Cyberwar and Cyberterror</a:t>
            </a:r>
            <a:endParaRPr b="0" lang="en-US" sz="4300" spc="-1" strike="noStrike">
              <a:solidFill>
                <a:srgbClr val="404040"/>
              </a:solidFill>
              <a:latin typeface="Calisto MT"/>
            </a:endParaRPr>
          </a:p>
        </p:txBody>
      </p:sp>
      <p:sp>
        <p:nvSpPr>
          <p:cNvPr id="943" name=""/>
          <p:cNvSpPr txBox="1"/>
          <p:nvPr/>
        </p:nvSpPr>
        <p:spPr>
          <a:xfrm>
            <a:off x="457200" y="1676160"/>
            <a:ext cx="8229600" cy="433044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war and Cyberterro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national governments (cyberwar) - Stuxnet</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organized terrorists (cyberterror)</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Potential for far greater attacks than those caused by criminal attacker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4"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5"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8993-EC2F-4A36-AC84-F84C63CAAA0A}"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5: Cyberwar and Cyberterror</a:t>
            </a:r>
            <a:endParaRPr b="0" lang="en-US" sz="4300" spc="-1" strike="noStrike">
              <a:solidFill>
                <a:srgbClr val="404040"/>
              </a:solidFill>
              <a:latin typeface="Calisto MT"/>
            </a:endParaRPr>
          </a:p>
        </p:txBody>
      </p:sp>
      <p:sp>
        <p:nvSpPr>
          <p:cNvPr id="947"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wa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mputer-based attacks by national governments </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Espionag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yber-only attacks to damage financial and communication infrastructure</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 augment conventional physical attack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ttack IT infrastructure along with physical attacks (or in place of physical attacks)</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aralyze enemy command and control</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Engage in propaganda attacks</a:t>
            </a:r>
            <a:endParaRPr b="0" lang="en-US" sz="20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48"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49"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4641-EC9A-4120-AB2C-7016E7DDC7B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CIA</a:t>
            </a:r>
            <a:endParaRPr b="0" lang="en-US" sz="4300" spc="-1" strike="noStrike">
              <a:solidFill>
                <a:srgbClr val="404040"/>
              </a:solidFill>
              <a:latin typeface="Calisto MT"/>
            </a:endParaRPr>
          </a:p>
        </p:txBody>
      </p:sp>
      <p:sp>
        <p:nvSpPr>
          <p:cNvPr id="730" name=""/>
          <p:cNvSpPr txBox="1"/>
          <p:nvPr/>
        </p:nvSpPr>
        <p:spPr>
          <a:xfrm>
            <a:off x="380880" y="1752120"/>
            <a:ext cx="8382240" cy="4496040"/>
          </a:xfrm>
          <a:prstGeom prst="rect">
            <a:avLst/>
          </a:prstGeom>
          <a:noFill/>
          <a:ln w="0">
            <a:noFill/>
          </a:ln>
        </p:spPr>
        <p:txBody>
          <a:bodyPr anchor="t">
            <a:normAutofit fontScale="94000"/>
          </a:bodyPr>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Confidentiality</a:t>
            </a:r>
            <a:endParaRPr b="0" lang="en-US" sz="2200" spc="-1" strike="noStrike">
              <a:solidFill>
                <a:srgbClr val="404040"/>
              </a:solidFill>
              <a:latin typeface="Calisto MT"/>
            </a:endParaRPr>
          </a:p>
          <a:p>
            <a:pPr lvl="1" marL="544680" indent="-21456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nformation is protected from exposure to unauthorized users</a:t>
            </a:r>
            <a:endParaRPr b="0" lang="en-US" sz="2000" spc="-1" strike="noStrike">
              <a:solidFill>
                <a:srgbClr val="404040"/>
              </a:solidFill>
              <a:latin typeface="Calisto MT"/>
            </a:endParaRPr>
          </a:p>
          <a:p>
            <a:pPr lvl="2" marL="759600" indent="-21456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Within a computer system or</a:t>
            </a:r>
            <a:endParaRPr b="0" lang="en-US" sz="1900" spc="-1" strike="noStrike">
              <a:solidFill>
                <a:srgbClr val="404040"/>
              </a:solidFill>
              <a:latin typeface="Calisto MT"/>
            </a:endParaRPr>
          </a:p>
          <a:p>
            <a:pPr lvl="2" marL="759600" indent="-21456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Calisto MT"/>
              </a:rPr>
              <a:t>When traveling across a network</a:t>
            </a:r>
            <a:endParaRPr b="0" lang="en-US" sz="1900" spc="-1" strike="noStrike">
              <a:solidFill>
                <a:srgbClr val="404040"/>
              </a:solidFill>
              <a:latin typeface="Calisto MT"/>
            </a:endParaRPr>
          </a:p>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Integrity</a:t>
            </a:r>
            <a:endParaRPr b="0" lang="en-US" sz="2200" spc="-1" strike="noStrike">
              <a:solidFill>
                <a:srgbClr val="404040"/>
              </a:solidFill>
              <a:latin typeface="Calisto MT"/>
            </a:endParaRPr>
          </a:p>
          <a:p>
            <a:pPr lvl="1" marL="544680" indent="-21456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nformation can not be changed</a:t>
            </a:r>
            <a:endParaRPr b="0" lang="en-US" sz="2000" spc="-1" strike="noStrike">
              <a:solidFill>
                <a:srgbClr val="404040"/>
              </a:solidFill>
              <a:latin typeface="Calisto MT"/>
            </a:endParaRPr>
          </a:p>
          <a:p>
            <a:pPr lvl="1" marL="544680" indent="-21456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If Information is changed, the change can be identified and removed (i.e. information restored)</a:t>
            </a:r>
            <a:endParaRPr b="0" lang="en-US" sz="2000" spc="-1" strike="noStrike">
              <a:solidFill>
                <a:srgbClr val="404040"/>
              </a:solidFill>
              <a:latin typeface="Calisto MT"/>
            </a:endParaRPr>
          </a:p>
          <a:p>
            <a:pPr marL="322200" indent="-32220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vailability</a:t>
            </a:r>
            <a:endParaRPr b="0" lang="en-US" sz="2200" spc="-1" strike="noStrike">
              <a:solidFill>
                <a:srgbClr val="404040"/>
              </a:solidFill>
              <a:latin typeface="Calisto MT"/>
            </a:endParaRPr>
          </a:p>
          <a:p>
            <a:pPr lvl="1" marL="544680" indent="-21456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Availability means that people who are authorized to use information receive it without interference or obstruction in the format required</a:t>
            </a:r>
            <a:endParaRPr b="0" lang="en-US" sz="2000" spc="-1" strike="noStrike">
              <a:solidFill>
                <a:srgbClr val="404040"/>
              </a:solidFill>
              <a:latin typeface="Calisto MT"/>
            </a:endParaRPr>
          </a:p>
          <a:p>
            <a:pPr marL="322200" indent="-322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sto MT"/>
            </a:endParaRPr>
          </a:p>
        </p:txBody>
      </p:sp>
      <p:sp>
        <p:nvSpPr>
          <p:cNvPr id="731"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32"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9202-B0A3-4464-93F8-A28410332C34}"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5: Cyberwar and Cyberterror</a:t>
            </a:r>
            <a:endParaRPr b="0" lang="en-US" sz="4300" spc="-1" strike="noStrike">
              <a:solidFill>
                <a:srgbClr val="404040"/>
              </a:solidFill>
              <a:latin typeface="Calisto MT"/>
            </a:endParaRPr>
          </a:p>
        </p:txBody>
      </p:sp>
      <p:sp>
        <p:nvSpPr>
          <p:cNvPr id="951"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yberterror</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tacks by terrorists or terrorist group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May attack IT resources directly</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 the Internet for recruitment and coordination</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Use the Internet to augment physical attack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isrupt communication among first responders </a:t>
            </a:r>
            <a:endParaRPr b="0" lang="en-US" sz="20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Use cyberattacks to increase terror in physical attacks</a:t>
            </a:r>
            <a:endParaRPr b="0" lang="en-US" sz="20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urn to computer crime to fund their attack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sto MT"/>
            </a:endParaRPr>
          </a:p>
        </p:txBody>
      </p:sp>
      <p:sp>
        <p:nvSpPr>
          <p:cNvPr id="952"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953"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7F6C-71BE-4038-A4C9-AB7914BB4F4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14040" y="1123560"/>
            <a:ext cx="7342200" cy="192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4040"/>
                </a:solidFill>
                <a:latin typeface="Calisto MT"/>
              </a:rPr>
              <a:t>The End</a:t>
            </a:r>
            <a:endParaRPr b="0" lang="en-US" sz="5400" spc="-1" strike="noStrike">
              <a:solidFill>
                <a:srgbClr val="404040"/>
              </a:solidFill>
              <a:latin typeface="Calisto MT"/>
            </a:endParaRPr>
          </a:p>
        </p:txBody>
      </p:sp>
      <p:sp>
        <p:nvSpPr>
          <p:cNvPr id="955" name="Slide Number Placeholder 3"/>
          <p:cNvSpPr/>
          <p:nvPr/>
        </p:nvSpPr>
        <p:spPr>
          <a:xfrm>
            <a:off x="4191120" y="612288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4374-BB0A-4D16-BAF6-27A6D58F58C7}"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p:transition>
    <p:wedg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7" name="Picture 3" descr="cid:3287383400_2177562"/>
          <p:cNvPicPr/>
          <p:nvPr/>
        </p:nvPicPr>
        <p:blipFill>
          <a:blip r:embed="rId2"/>
          <a:stretch/>
        </p:blipFill>
        <p:spPr>
          <a:xfrm>
            <a:off x="1066680" y="380880"/>
            <a:ext cx="7242120" cy="2363760"/>
          </a:xfrm>
          <a:prstGeom prst="rect">
            <a:avLst/>
          </a:prstGeom>
          <a:ln w="9360">
            <a:solidFill>
              <a:srgbClr val="ffffff"/>
            </a:solidFill>
            <a:miter/>
          </a:ln>
        </p:spPr>
      </p:pic>
      <p:sp>
        <p:nvSpPr>
          <p:cNvPr id="958" name="Rectangle 4"/>
          <p:cNvSpPr/>
          <p:nvPr/>
        </p:nvSpPr>
        <p:spPr>
          <a:xfrm>
            <a:off x="685800" y="289656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959" name="Rectangle 5"/>
          <p:cNvSpPr/>
          <p:nvPr/>
        </p:nvSpPr>
        <p:spPr>
          <a:xfrm>
            <a:off x="762120" y="4267080"/>
            <a:ext cx="78454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 Basic Security Terminology</a:t>
            </a:r>
            <a:endParaRPr b="0" lang="en-US" sz="4300" spc="-1" strike="noStrike">
              <a:solidFill>
                <a:srgbClr val="404040"/>
              </a:solidFill>
              <a:latin typeface="Calisto MT"/>
            </a:endParaRPr>
          </a:p>
        </p:txBody>
      </p:sp>
      <p:sp>
        <p:nvSpPr>
          <p:cNvPr id="734"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mpromis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Successful attac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incident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breaches (not breeches)</a:t>
            </a:r>
            <a:endParaRPr b="0" lang="en-US" sz="22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35"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36"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3408-4139-4B47-AF1C-77E86739E812}"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Calisto MT"/>
              </a:rPr>
              <a:t>1-1: Basic Security Terminology</a:t>
            </a:r>
            <a:endParaRPr b="0" lang="en-US" sz="4300" spc="-1" strike="noStrike">
              <a:solidFill>
                <a:srgbClr val="404040"/>
              </a:solidFill>
              <a:latin typeface="Calisto MT"/>
            </a:endParaRPr>
          </a:p>
        </p:txBody>
      </p:sp>
      <p:sp>
        <p:nvSpPr>
          <p:cNvPr id="738" name=""/>
          <p:cNvSpPr txBox="1"/>
          <p:nvPr/>
        </p:nvSpPr>
        <p:spPr>
          <a:xfrm>
            <a:off x="900000" y="2133360"/>
            <a:ext cx="734544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sto MT"/>
              </a:rPr>
              <a:t>Countermeasure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ools used to thwart attack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lso called safeguards, protections, and controls</a:t>
            </a:r>
            <a:endParaRPr b="0" lang="en-US" sz="22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Types of countermeasures</a:t>
            </a:r>
            <a:endParaRPr b="0" lang="en-US" sz="22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Preventa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Keep the attack from occurring</a:t>
            </a:r>
            <a:endParaRPr b="0" lang="en-US" sz="18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Detec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Identify when an attack is occurring</a:t>
            </a:r>
            <a:endParaRPr b="0" lang="en-US" sz="1800" spc="-1" strike="noStrike">
              <a:solidFill>
                <a:srgbClr val="404040"/>
              </a:solidFill>
              <a:latin typeface="Calisto MT"/>
            </a:endParaRPr>
          </a:p>
          <a:p>
            <a:pPr lvl="2" marL="8082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sto MT"/>
              </a:rPr>
              <a:t>Corrective</a:t>
            </a:r>
            <a:endParaRPr b="0" lang="en-US" sz="2000" spc="-1" strike="noStrike">
              <a:solidFill>
                <a:srgbClr val="404040"/>
              </a:solidFill>
              <a:latin typeface="Calisto MT"/>
            </a:endParaRPr>
          </a:p>
          <a:p>
            <a:pPr lvl="3" marL="1036800" indent="-228600">
              <a:spcBef>
                <a:spcPts val="601"/>
              </a:spcBef>
              <a:buClr>
                <a:srgbClr val="b0bc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sto MT"/>
              </a:rPr>
              <a:t>Repair system after attack</a:t>
            </a:r>
            <a:endParaRPr b="0" lang="en-US" sz="1800" spc="-1" strike="noStrike">
              <a:solidFill>
                <a:srgbClr val="404040"/>
              </a:solidFill>
              <a:latin typeface="Calisto MT"/>
            </a:endParaRPr>
          </a:p>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sto MT"/>
            </a:endParaRPr>
          </a:p>
        </p:txBody>
      </p:sp>
      <p:sp>
        <p:nvSpPr>
          <p:cNvPr id="739" name="Footer Placeholder 4"/>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40" name="Slide Number Placeholder 3"/>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BBA4-8991-4341-8366-535083997C4C}"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00000" y="244440"/>
            <a:ext cx="7345440" cy="13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sto MT"/>
              </a:rPr>
              <a:t>Security</a:t>
            </a:r>
            <a:endParaRPr b="0" lang="en-US" sz="4800" spc="-1" strike="noStrike">
              <a:solidFill>
                <a:srgbClr val="404040"/>
              </a:solidFill>
              <a:latin typeface="Calisto MT"/>
            </a:endParaRPr>
          </a:p>
        </p:txBody>
      </p:sp>
      <p:sp>
        <p:nvSpPr>
          <p:cNvPr id="742" name=""/>
          <p:cNvSpPr txBox="1"/>
          <p:nvPr/>
        </p:nvSpPr>
        <p:spPr>
          <a:xfrm>
            <a:off x="380520" y="1980720"/>
            <a:ext cx="3976920" cy="3932280"/>
          </a:xfrm>
          <a:prstGeom prst="rect">
            <a:avLst/>
          </a:prstGeom>
          <a:noFill/>
          <a:ln w="0">
            <a:noFill/>
          </a:ln>
        </p:spPr>
        <p:txBody>
          <a:bodyPr anchor="t">
            <a:normAutofit/>
          </a:bodyPr>
          <a:p>
            <a:pPr marL="343080" indent="-343080">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sto MT"/>
              </a:rPr>
              <a:t>Committee on National Security Systems (CNSS)</a:t>
            </a:r>
            <a:endParaRPr b="0" lang="en-US" sz="2400" spc="-1" strike="noStrike">
              <a:solidFill>
                <a:srgbClr val="404040"/>
              </a:solidFill>
              <a:latin typeface="Calisto MT"/>
            </a:endParaRPr>
          </a:p>
          <a:p>
            <a:pPr lvl="1" marL="579600" indent="-228600">
              <a:spcBef>
                <a:spcPts val="601"/>
              </a:spcBef>
              <a:buClr>
                <a:srgbClr val="b0b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sto MT"/>
              </a:rPr>
              <a:t>“</a:t>
            </a:r>
            <a:r>
              <a:rPr b="0" lang="en-US" sz="2200" spc="-1" strike="noStrike">
                <a:solidFill>
                  <a:srgbClr val="404040"/>
                </a:solidFill>
                <a:latin typeface="Calisto MT"/>
              </a:rPr>
              <a:t>the protection of information and its critical elements, including the systems and hardware that use, store, and transmit that information”</a:t>
            </a:r>
            <a:endParaRPr b="0" lang="en-US" sz="2200" spc="-1" strike="noStrike">
              <a:solidFill>
                <a:srgbClr val="404040"/>
              </a:solidFill>
              <a:latin typeface="Calisto MT"/>
            </a:endParaRPr>
          </a:p>
        </p:txBody>
      </p:sp>
      <p:sp>
        <p:nvSpPr>
          <p:cNvPr id="743" name="Footer Placeholder 3"/>
          <p:cNvSpPr/>
          <p:nvPr/>
        </p:nvSpPr>
        <p:spPr>
          <a:xfrm>
            <a:off x="5959440" y="6372360"/>
            <a:ext cx="2895480" cy="25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cc1"/>
                </a:solidFill>
                <a:latin typeface="Brush Script MT"/>
              </a:rPr>
              <a:t>Copyright Pearson Prentice-Hall 2010</a:t>
            </a:r>
            <a:endParaRPr b="0" lang="en-US" sz="1200" spc="-1" strike="noStrike">
              <a:solidFill>
                <a:srgbClr val="000000"/>
              </a:solidFill>
              <a:latin typeface="Arial"/>
            </a:endParaRPr>
          </a:p>
        </p:txBody>
      </p:sp>
      <p:sp>
        <p:nvSpPr>
          <p:cNvPr id="744" name="Slide Number Placeholder 4"/>
          <p:cNvSpPr/>
          <p:nvPr/>
        </p:nvSpPr>
        <p:spPr>
          <a:xfrm>
            <a:off x="4191120" y="6356520"/>
            <a:ext cx="7617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46AC-F1E4-40B2-9CD1-D73DEB9DA58E}" type="slidenum">
              <a:rPr b="0" lang="en-US" sz="1200" spc="-1" strike="noStrike">
                <a:solidFill>
                  <a:srgbClr val="b0bcc1"/>
                </a:solidFill>
                <a:latin typeface="Calisto MT"/>
              </a:rPr>
              <a:t>&lt;number&gt;</a:t>
            </a:fld>
            <a:endParaRPr b="0" lang="en-US" sz="1200" spc="-1" strike="noStrike">
              <a:solidFill>
                <a:srgbClr val="000000"/>
              </a:solidFill>
              <a:latin typeface="Arial"/>
            </a:endParaRPr>
          </a:p>
        </p:txBody>
      </p:sp>
      <p:pic>
        <p:nvPicPr>
          <p:cNvPr id="745" name="Picture 5" descr=""/>
          <p:cNvPicPr/>
          <p:nvPr/>
        </p:nvPicPr>
        <p:blipFill>
          <a:blip r:embed="rId2"/>
          <a:stretch/>
        </p:blipFill>
        <p:spPr>
          <a:xfrm>
            <a:off x="4952880" y="1828800"/>
            <a:ext cx="3897360" cy="3759120"/>
          </a:xfrm>
          <a:prstGeom prst="rect">
            <a:avLst/>
          </a:prstGeom>
          <a:ln w="0">
            <a:noFill/>
          </a:ln>
        </p:spPr>
      </p:pic>
      <p:sp>
        <p:nvSpPr>
          <p:cNvPr id="746" name="TextBox 6"/>
          <p:cNvSpPr/>
          <p:nvPr/>
        </p:nvSpPr>
        <p:spPr>
          <a:xfrm>
            <a:off x="5257800" y="563868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umber Cube 3x3x3 27 addressable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4:27:38Z</dcterms:created>
  <dc:creator>Panko</dc:creator>
  <dc:description/>
  <dc:language>en-US</dc:language>
  <cp:lastModifiedBy>Steven Hornik</cp:lastModifiedBy>
  <dcterms:modified xsi:type="dcterms:W3CDTF">2011-09-08T18:04:39Z</dcterms:modified>
  <cp:revision>205</cp:revision>
  <dc:subject/>
  <dc:title>Wide Area Networks (WANs)</dc:title>
</cp:coreProperties>
</file>